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839325" cy="73961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759720" y="6665760"/>
            <a:ext cx="269892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icrosoft Company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19000" y="6667560"/>
            <a:ext cx="19044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7B8CD694-A0CD-49A9-BCFC-771EA7CCC446}" type="datetime"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123920" y="550800"/>
            <a:ext cx="10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1160" y="1943280"/>
            <a:ext cx="807732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28880" y="1638360"/>
            <a:ext cx="7924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Win32 presents a DOS like high level filesystem API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GetFile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Win32 APIs are in turn based on NT I/O system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680" y="1104840"/>
            <a:ext cx="861048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Win32 API will call one or more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Read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Delete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SetInformationFile (to set "FileDisposition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OpenFile API calls several APIs, inclu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 (to query "FileBasic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76240" y="11048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nterface between the NT I/O system and NT drivers and file systems is the IoCallDriver API.  The IoCallDriver API takes an IoRequestPacket (IRP) as one of its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RP contains all the information to implement a particular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re is no difference between an NT file system and an NT device driver to the NT I/O system.  All drivers and file systems share a common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major NT I/O system API maps onto a single IRP, however some related APIs are mapped to common IR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 maps to IRP_MJ_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 and NtOpenFile both map to IRP_MJ_CRE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LockFile and NtUnlockFile both map to IRP_MJ_LOCK_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23960" y="1181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 contains one or more Irp Stack Locations (IrpSp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drivers or file systems can use other stack locations in the IRP to pass requests to lower level d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Sp contains information about the particular NT API being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 contains the ByteOffset, Length, and "Key" for the read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contains the DesiredAccess, ShareAccess, and Initial allocation for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7640" y="1924200"/>
            <a:ext cx="868680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59040" y="550800"/>
            <a:ext cx="26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mportant IRP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23960" y="1990800"/>
            <a:ext cx="853452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886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are the most important NT I/O system IR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- Called whenever a file object is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/IRP_MJ_WRITE - Called to Read or Write data to a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EANUP - Called when the last handle open on a file object is cl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OSE - Called when the last reference to a file object is removed.  </a:t>
            </a:r>
            <a:r>
              <a:rPr b="1" i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ote that this is NOT necessarily the same time that the user closes the file.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476520" y="396720"/>
            <a:ext cx="30193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Object N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7640" y="1236600"/>
            <a:ext cx="86868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ll NT objects lie in the NT nam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name space is hierarchical, and all NT devices begin at the special n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n Nt network file system appears to be just another NT device, typically NT network file systems are called something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mote files are presented to the file system relative to the base of the file system device name.  Thus the application would o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file system would see an IRP_MJ_CREATE IRP containing a file object with the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22560" y="549360"/>
            <a:ext cx="3929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7640" y="125748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 is performed via NT's Symbolic Link cap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ocal drives are simply symbolic links to other locations in the NT name hierarc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establishes drive mappings for the default NT dev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Floppy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C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HardDisk0\Parti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PT1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Parallel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o map a local Win32 drive to a network drive, all a network providers WNetAddConnection API has to do is to use the Native NT API's to create a Symbolic Link that maps the specified local drive to a point inside the network fil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Q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NetworkRedirector\Remote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7640" y="1495440"/>
            <a:ext cx="868680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81600" y="549360"/>
            <a:ext cx="2009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09760" y="1028880"/>
            <a:ext cx="76960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81160" y="1789200"/>
            <a:ext cx="84582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Security is imbedded in the NT ker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security model allows for replaceable "Authentication Packages" that are used to provide domain wid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uthentication packages run in USER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echanisms are provided for network file systems  components to call authentication packages to determine user credentials or security challenge/respons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default NT authentication package (MSV1_0) implements Lan Manager style challenge/respons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