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4760" cy="5254920"/>
            <a:chOff x="146160" y="976320"/>
            <a:chExt cx="8834760" cy="525492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7480" cy="4888080"/>
              <a:chOff x="3673440" y="979560"/>
              <a:chExt cx="5307480" cy="488808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79760" cy="1779840"/>
                <a:chOff x="8201160" y="4087800"/>
                <a:chExt cx="779760" cy="177984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79760" cy="522360"/>
                  <a:chOff x="8201160" y="5345280"/>
                  <a:chExt cx="779760" cy="52236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4200" cy="316440"/>
                  </a:xfrm>
                  <a:custGeom>
                    <a:avLst/>
                    <a:gdLst/>
                    <a:ahLst/>
                    <a:rect l="0" t="0" r="r" b="b"/>
                    <a:pathLst>
                      <a:path w="345" h="879">
                        <a:moveTo>
                          <a:pt x="112" y="12"/>
                        </a:moveTo>
                        <a:lnTo>
                          <a:pt x="147" y="0"/>
                        </a:lnTo>
                        <a:lnTo>
                          <a:pt x="207" y="97"/>
                        </a:lnTo>
                        <a:lnTo>
                          <a:pt x="198" y="378"/>
                        </a:lnTo>
                        <a:lnTo>
                          <a:pt x="241" y="378"/>
                        </a:lnTo>
                        <a:lnTo>
                          <a:pt x="250" y="415"/>
                        </a:lnTo>
                        <a:lnTo>
                          <a:pt x="268" y="476"/>
                        </a:lnTo>
                        <a:lnTo>
                          <a:pt x="277" y="512"/>
                        </a:lnTo>
                        <a:lnTo>
                          <a:pt x="311" y="500"/>
                        </a:lnTo>
                        <a:lnTo>
                          <a:pt x="337" y="439"/>
                        </a:lnTo>
                        <a:lnTo>
                          <a:pt x="345" y="476"/>
                        </a:lnTo>
                        <a:lnTo>
                          <a:pt x="328" y="525"/>
                        </a:lnTo>
                        <a:lnTo>
                          <a:pt x="311" y="561"/>
                        </a:lnTo>
                        <a:lnTo>
                          <a:pt x="302" y="634"/>
                        </a:lnTo>
                        <a:lnTo>
                          <a:pt x="258" y="672"/>
                        </a:lnTo>
                        <a:lnTo>
                          <a:pt x="233" y="684"/>
                        </a:lnTo>
                        <a:lnTo>
                          <a:pt x="198" y="721"/>
                        </a:lnTo>
                        <a:lnTo>
                          <a:pt x="190" y="757"/>
                        </a:lnTo>
                        <a:lnTo>
                          <a:pt x="198" y="794"/>
                        </a:lnTo>
                        <a:lnTo>
                          <a:pt x="207" y="830"/>
                        </a:lnTo>
                        <a:lnTo>
                          <a:pt x="164" y="855"/>
                        </a:lnTo>
                        <a:lnTo>
                          <a:pt x="138" y="867"/>
                        </a:lnTo>
                        <a:lnTo>
                          <a:pt x="112" y="879"/>
                        </a:lnTo>
                        <a:lnTo>
                          <a:pt x="95" y="867"/>
                        </a:lnTo>
                        <a:lnTo>
                          <a:pt x="51" y="855"/>
                        </a:lnTo>
                        <a:lnTo>
                          <a:pt x="34" y="830"/>
                        </a:lnTo>
                        <a:lnTo>
                          <a:pt x="51" y="806"/>
                        </a:lnTo>
                        <a:lnTo>
                          <a:pt x="85" y="794"/>
                        </a:lnTo>
                        <a:lnTo>
                          <a:pt x="112" y="733"/>
                        </a:lnTo>
                        <a:lnTo>
                          <a:pt x="112" y="708"/>
                        </a:lnTo>
                        <a:lnTo>
                          <a:pt x="85" y="684"/>
                        </a:lnTo>
                        <a:lnTo>
                          <a:pt x="51" y="646"/>
                        </a:lnTo>
                        <a:lnTo>
                          <a:pt x="25" y="646"/>
                        </a:lnTo>
                        <a:lnTo>
                          <a:pt x="8" y="634"/>
                        </a:lnTo>
                        <a:lnTo>
                          <a:pt x="0" y="598"/>
                        </a:lnTo>
                        <a:lnTo>
                          <a:pt x="8" y="573"/>
                        </a:lnTo>
                        <a:lnTo>
                          <a:pt x="25" y="573"/>
                        </a:lnTo>
                        <a:lnTo>
                          <a:pt x="51" y="561"/>
                        </a:lnTo>
                        <a:lnTo>
                          <a:pt x="85" y="525"/>
                        </a:lnTo>
                        <a:lnTo>
                          <a:pt x="104" y="512"/>
                        </a:lnTo>
                        <a:lnTo>
                          <a:pt x="121" y="378"/>
                        </a:lnTo>
                        <a:lnTo>
                          <a:pt x="104" y="342"/>
                        </a:lnTo>
                        <a:lnTo>
                          <a:pt x="77" y="317"/>
                        </a:lnTo>
                        <a:lnTo>
                          <a:pt x="68" y="244"/>
                        </a:lnTo>
                        <a:lnTo>
                          <a:pt x="77" y="170"/>
                        </a:lnTo>
                        <a:lnTo>
                          <a:pt x="85" y="121"/>
                        </a:lnTo>
                        <a:lnTo>
                          <a:pt x="112" y="12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0400" cy="268560"/>
                  </a:xfrm>
                  <a:custGeom>
                    <a:avLst/>
                    <a:gdLst/>
                    <a:ahLst/>
                    <a:rect l="0" t="0" r="r" b="b"/>
                    <a:pathLst>
                      <a:path w="640" h="746">
                        <a:moveTo>
                          <a:pt x="450" y="0"/>
                        </a:moveTo>
                        <a:lnTo>
                          <a:pt x="528" y="0"/>
                        </a:lnTo>
                        <a:lnTo>
                          <a:pt x="640" y="195"/>
                        </a:lnTo>
                        <a:lnTo>
                          <a:pt x="519" y="366"/>
                        </a:lnTo>
                        <a:lnTo>
                          <a:pt x="519" y="440"/>
                        </a:lnTo>
                        <a:lnTo>
                          <a:pt x="493" y="465"/>
                        </a:lnTo>
                        <a:lnTo>
                          <a:pt x="424" y="465"/>
                        </a:lnTo>
                        <a:lnTo>
                          <a:pt x="337" y="562"/>
                        </a:lnTo>
                        <a:lnTo>
                          <a:pt x="259" y="660"/>
                        </a:lnTo>
                        <a:lnTo>
                          <a:pt x="207" y="746"/>
                        </a:lnTo>
                        <a:lnTo>
                          <a:pt x="207" y="672"/>
                        </a:lnTo>
                        <a:lnTo>
                          <a:pt x="112" y="685"/>
                        </a:lnTo>
                        <a:lnTo>
                          <a:pt x="69" y="685"/>
                        </a:lnTo>
                        <a:lnTo>
                          <a:pt x="0" y="685"/>
                        </a:lnTo>
                        <a:lnTo>
                          <a:pt x="95" y="562"/>
                        </a:lnTo>
                        <a:lnTo>
                          <a:pt x="129" y="501"/>
                        </a:lnTo>
                        <a:lnTo>
                          <a:pt x="164" y="501"/>
                        </a:lnTo>
                        <a:lnTo>
                          <a:pt x="233" y="404"/>
                        </a:lnTo>
                        <a:lnTo>
                          <a:pt x="259" y="404"/>
                        </a:lnTo>
                        <a:lnTo>
                          <a:pt x="259" y="391"/>
                        </a:lnTo>
                        <a:lnTo>
                          <a:pt x="293" y="354"/>
                        </a:lnTo>
                        <a:lnTo>
                          <a:pt x="337" y="354"/>
                        </a:lnTo>
                        <a:lnTo>
                          <a:pt x="319" y="244"/>
                        </a:lnTo>
                        <a:lnTo>
                          <a:pt x="329" y="244"/>
                        </a:lnTo>
                        <a:lnTo>
                          <a:pt x="372" y="183"/>
                        </a:lnTo>
                        <a:lnTo>
                          <a:pt x="389" y="232"/>
                        </a:lnTo>
                        <a:lnTo>
                          <a:pt x="458" y="146"/>
                        </a:lnTo>
                        <a:lnTo>
                          <a:pt x="450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7840" cy="1414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93">
                        <a:moveTo>
                          <a:pt x="0" y="0"/>
                        </a:moveTo>
                        <a:lnTo>
                          <a:pt x="51" y="0"/>
                        </a:lnTo>
                        <a:lnTo>
                          <a:pt x="113" y="49"/>
                        </a:lnTo>
                        <a:lnTo>
                          <a:pt x="244" y="49"/>
                        </a:lnTo>
                        <a:lnTo>
                          <a:pt x="227" y="110"/>
                        </a:lnTo>
                        <a:lnTo>
                          <a:pt x="244" y="183"/>
                        </a:lnTo>
                        <a:lnTo>
                          <a:pt x="201" y="183"/>
                        </a:lnTo>
                        <a:lnTo>
                          <a:pt x="192" y="197"/>
                        </a:lnTo>
                        <a:lnTo>
                          <a:pt x="165" y="209"/>
                        </a:lnTo>
                        <a:lnTo>
                          <a:pt x="192" y="393"/>
                        </a:lnTo>
                        <a:lnTo>
                          <a:pt x="113" y="381"/>
                        </a:lnTo>
                        <a:lnTo>
                          <a:pt x="43" y="319"/>
                        </a:lnTo>
                        <a:lnTo>
                          <a:pt x="43" y="197"/>
                        </a:lnTo>
                        <a:lnTo>
                          <a:pt x="43" y="147"/>
                        </a:lnTo>
                        <a:lnTo>
                          <a:pt x="0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0040" cy="159120"/>
                </a:xfrm>
                <a:custGeom>
                  <a:avLst/>
                  <a:gdLst/>
                  <a:ahLst/>
                  <a:rect l="0" t="0" r="r" b="b"/>
                  <a:pathLst>
                    <a:path w="389" h="442">
                      <a:moveTo>
                        <a:pt x="68" y="164"/>
                      </a:moveTo>
                      <a:lnTo>
                        <a:pt x="0" y="354"/>
                      </a:lnTo>
                      <a:lnTo>
                        <a:pt x="25" y="430"/>
                      </a:lnTo>
                      <a:lnTo>
                        <a:pt x="137" y="442"/>
                      </a:lnTo>
                      <a:lnTo>
                        <a:pt x="233" y="442"/>
                      </a:lnTo>
                      <a:lnTo>
                        <a:pt x="268" y="367"/>
                      </a:lnTo>
                      <a:lnTo>
                        <a:pt x="285" y="290"/>
                      </a:lnTo>
                      <a:lnTo>
                        <a:pt x="389" y="290"/>
                      </a:lnTo>
                      <a:lnTo>
                        <a:pt x="371" y="177"/>
                      </a:lnTo>
                      <a:lnTo>
                        <a:pt x="371" y="62"/>
                      </a:lnTo>
                      <a:lnTo>
                        <a:pt x="268" y="0"/>
                      </a:lnTo>
                      <a:lnTo>
                        <a:pt x="259" y="126"/>
                      </a:lnTo>
                      <a:lnTo>
                        <a:pt x="320" y="202"/>
                      </a:lnTo>
                      <a:lnTo>
                        <a:pt x="225" y="202"/>
                      </a:lnTo>
                      <a:lnTo>
                        <a:pt x="189" y="252"/>
                      </a:lnTo>
                      <a:lnTo>
                        <a:pt x="68" y="164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5200" cy="3797640"/>
                <a:chOff x="6815160" y="1752480"/>
                <a:chExt cx="1645200" cy="379764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7200" cy="1140480"/>
                  <a:chOff x="7080120" y="2139840"/>
                  <a:chExt cx="367200" cy="114048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7840" cy="1162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23">
                        <a:moveTo>
                          <a:pt x="0" y="249"/>
                        </a:moveTo>
                        <a:lnTo>
                          <a:pt x="43" y="311"/>
                        </a:lnTo>
                        <a:lnTo>
                          <a:pt x="96" y="299"/>
                        </a:lnTo>
                        <a:lnTo>
                          <a:pt x="174" y="323"/>
                        </a:lnTo>
                        <a:lnTo>
                          <a:pt x="235" y="323"/>
                        </a:lnTo>
                        <a:lnTo>
                          <a:pt x="244" y="211"/>
                        </a:lnTo>
                        <a:lnTo>
                          <a:pt x="227" y="137"/>
                        </a:lnTo>
                        <a:lnTo>
                          <a:pt x="182" y="49"/>
                        </a:lnTo>
                        <a:lnTo>
                          <a:pt x="139" y="49"/>
                        </a:lnTo>
                        <a:lnTo>
                          <a:pt x="122" y="0"/>
                        </a:lnTo>
                        <a:lnTo>
                          <a:pt x="60" y="0"/>
                        </a:lnTo>
                        <a:lnTo>
                          <a:pt x="60" y="100"/>
                        </a:lnTo>
                        <a:lnTo>
                          <a:pt x="0" y="249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4600" cy="147960"/>
                  </a:xfrm>
                  <a:custGeom>
                    <a:avLst/>
                    <a:gdLst/>
                    <a:ahLst/>
                    <a:rect l="0" t="0" r="r" b="b"/>
                    <a:pathLst>
                      <a:path w="235" h="411">
                        <a:moveTo>
                          <a:pt x="51" y="0"/>
                        </a:moveTo>
                        <a:lnTo>
                          <a:pt x="156" y="12"/>
                        </a:lnTo>
                        <a:lnTo>
                          <a:pt x="192" y="124"/>
                        </a:lnTo>
                        <a:lnTo>
                          <a:pt x="235" y="186"/>
                        </a:lnTo>
                        <a:lnTo>
                          <a:pt x="201" y="237"/>
                        </a:lnTo>
                        <a:lnTo>
                          <a:pt x="235" y="299"/>
                        </a:lnTo>
                        <a:lnTo>
                          <a:pt x="218" y="373"/>
                        </a:lnTo>
                        <a:lnTo>
                          <a:pt x="183" y="411"/>
                        </a:lnTo>
                        <a:lnTo>
                          <a:pt x="113" y="398"/>
                        </a:lnTo>
                        <a:lnTo>
                          <a:pt x="70" y="398"/>
                        </a:lnTo>
                        <a:lnTo>
                          <a:pt x="43" y="348"/>
                        </a:lnTo>
                        <a:lnTo>
                          <a:pt x="17" y="286"/>
                        </a:lnTo>
                        <a:lnTo>
                          <a:pt x="17" y="224"/>
                        </a:lnTo>
                        <a:lnTo>
                          <a:pt x="0" y="136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49760" cy="136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380">
                        <a:moveTo>
                          <a:pt x="60" y="0"/>
                        </a:moveTo>
                        <a:lnTo>
                          <a:pt x="113" y="61"/>
                        </a:lnTo>
                        <a:lnTo>
                          <a:pt x="165" y="48"/>
                        </a:lnTo>
                        <a:lnTo>
                          <a:pt x="242" y="61"/>
                        </a:lnTo>
                        <a:lnTo>
                          <a:pt x="311" y="61"/>
                        </a:lnTo>
                        <a:lnTo>
                          <a:pt x="347" y="97"/>
                        </a:lnTo>
                        <a:lnTo>
                          <a:pt x="390" y="183"/>
                        </a:lnTo>
                        <a:lnTo>
                          <a:pt x="416" y="221"/>
                        </a:lnTo>
                        <a:lnTo>
                          <a:pt x="321" y="245"/>
                        </a:lnTo>
                        <a:lnTo>
                          <a:pt x="294" y="270"/>
                        </a:lnTo>
                        <a:lnTo>
                          <a:pt x="321" y="319"/>
                        </a:lnTo>
                        <a:lnTo>
                          <a:pt x="321" y="368"/>
                        </a:lnTo>
                        <a:lnTo>
                          <a:pt x="225" y="319"/>
                        </a:lnTo>
                        <a:lnTo>
                          <a:pt x="147" y="282"/>
                        </a:lnTo>
                        <a:lnTo>
                          <a:pt x="113" y="294"/>
                        </a:lnTo>
                        <a:lnTo>
                          <a:pt x="113" y="368"/>
                        </a:lnTo>
                        <a:lnTo>
                          <a:pt x="60" y="380"/>
                        </a:lnTo>
                        <a:lnTo>
                          <a:pt x="34" y="319"/>
                        </a:lnTo>
                        <a:lnTo>
                          <a:pt x="25" y="245"/>
                        </a:lnTo>
                        <a:lnTo>
                          <a:pt x="0" y="233"/>
                        </a:lnTo>
                        <a:lnTo>
                          <a:pt x="25" y="159"/>
                        </a:lnTo>
                        <a:lnTo>
                          <a:pt x="69" y="134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7160" cy="1100520"/>
                </a:xfrm>
                <a:custGeom>
                  <a:avLst/>
                  <a:gdLst/>
                  <a:ahLst/>
                  <a:rect l="0" t="0" r="r" b="b"/>
                  <a:pathLst>
                    <a:path w="2881" h="3057">
                      <a:moveTo>
                        <a:pt x="2074" y="0"/>
                      </a:moveTo>
                      <a:lnTo>
                        <a:pt x="2230" y="0"/>
                      </a:lnTo>
                      <a:lnTo>
                        <a:pt x="2230" y="245"/>
                      </a:lnTo>
                      <a:lnTo>
                        <a:pt x="2290" y="306"/>
                      </a:lnTo>
                      <a:lnTo>
                        <a:pt x="2307" y="343"/>
                      </a:lnTo>
                      <a:lnTo>
                        <a:pt x="2341" y="343"/>
                      </a:lnTo>
                      <a:lnTo>
                        <a:pt x="2358" y="392"/>
                      </a:lnTo>
                      <a:lnTo>
                        <a:pt x="2375" y="638"/>
                      </a:lnTo>
                      <a:lnTo>
                        <a:pt x="2461" y="798"/>
                      </a:lnTo>
                      <a:lnTo>
                        <a:pt x="2590" y="1031"/>
                      </a:lnTo>
                      <a:lnTo>
                        <a:pt x="2590" y="1068"/>
                      </a:lnTo>
                      <a:lnTo>
                        <a:pt x="2727" y="1265"/>
                      </a:lnTo>
                      <a:lnTo>
                        <a:pt x="2727" y="1301"/>
                      </a:lnTo>
                      <a:lnTo>
                        <a:pt x="2864" y="1461"/>
                      </a:lnTo>
                      <a:lnTo>
                        <a:pt x="2881" y="1743"/>
                      </a:lnTo>
                      <a:lnTo>
                        <a:pt x="2864" y="2001"/>
                      </a:lnTo>
                      <a:lnTo>
                        <a:pt x="2821" y="2124"/>
                      </a:lnTo>
                      <a:lnTo>
                        <a:pt x="2770" y="2185"/>
                      </a:lnTo>
                      <a:lnTo>
                        <a:pt x="2752" y="2309"/>
                      </a:lnTo>
                      <a:lnTo>
                        <a:pt x="2701" y="2419"/>
                      </a:lnTo>
                      <a:lnTo>
                        <a:pt x="2658" y="2468"/>
                      </a:lnTo>
                      <a:lnTo>
                        <a:pt x="2667" y="2505"/>
                      </a:lnTo>
                      <a:lnTo>
                        <a:pt x="2615" y="2579"/>
                      </a:lnTo>
                      <a:lnTo>
                        <a:pt x="2590" y="2738"/>
                      </a:lnTo>
                      <a:lnTo>
                        <a:pt x="2581" y="2824"/>
                      </a:lnTo>
                      <a:lnTo>
                        <a:pt x="2530" y="2861"/>
                      </a:lnTo>
                      <a:lnTo>
                        <a:pt x="2521" y="2898"/>
                      </a:lnTo>
                      <a:lnTo>
                        <a:pt x="2487" y="2972"/>
                      </a:lnTo>
                      <a:lnTo>
                        <a:pt x="2427" y="2984"/>
                      </a:lnTo>
                      <a:lnTo>
                        <a:pt x="2384" y="3008"/>
                      </a:lnTo>
                      <a:lnTo>
                        <a:pt x="2324" y="3057"/>
                      </a:lnTo>
                      <a:lnTo>
                        <a:pt x="2247" y="2959"/>
                      </a:lnTo>
                      <a:lnTo>
                        <a:pt x="2160" y="2972"/>
                      </a:lnTo>
                      <a:lnTo>
                        <a:pt x="2134" y="2972"/>
                      </a:lnTo>
                      <a:lnTo>
                        <a:pt x="2014" y="2996"/>
                      </a:lnTo>
                      <a:lnTo>
                        <a:pt x="1937" y="2898"/>
                      </a:lnTo>
                      <a:lnTo>
                        <a:pt x="1886" y="2800"/>
                      </a:lnTo>
                      <a:lnTo>
                        <a:pt x="1852" y="2812"/>
                      </a:lnTo>
                      <a:lnTo>
                        <a:pt x="1817" y="2726"/>
                      </a:lnTo>
                      <a:lnTo>
                        <a:pt x="1800" y="2652"/>
                      </a:lnTo>
                      <a:lnTo>
                        <a:pt x="1783" y="2628"/>
                      </a:lnTo>
                      <a:lnTo>
                        <a:pt x="1783" y="2505"/>
                      </a:lnTo>
                      <a:lnTo>
                        <a:pt x="1792" y="2432"/>
                      </a:lnTo>
                      <a:lnTo>
                        <a:pt x="1775" y="2382"/>
                      </a:lnTo>
                      <a:lnTo>
                        <a:pt x="1706" y="2407"/>
                      </a:lnTo>
                      <a:lnTo>
                        <a:pt x="1672" y="2419"/>
                      </a:lnTo>
                      <a:lnTo>
                        <a:pt x="1612" y="2419"/>
                      </a:lnTo>
                      <a:lnTo>
                        <a:pt x="1586" y="2419"/>
                      </a:lnTo>
                      <a:lnTo>
                        <a:pt x="1560" y="2419"/>
                      </a:lnTo>
                      <a:lnTo>
                        <a:pt x="1517" y="2346"/>
                      </a:lnTo>
                      <a:lnTo>
                        <a:pt x="1475" y="2246"/>
                      </a:lnTo>
                      <a:lnTo>
                        <a:pt x="1466" y="2259"/>
                      </a:lnTo>
                      <a:lnTo>
                        <a:pt x="1389" y="2259"/>
                      </a:lnTo>
                      <a:lnTo>
                        <a:pt x="1380" y="2222"/>
                      </a:lnTo>
                      <a:lnTo>
                        <a:pt x="1337" y="2259"/>
                      </a:lnTo>
                      <a:lnTo>
                        <a:pt x="1295" y="2246"/>
                      </a:lnTo>
                      <a:lnTo>
                        <a:pt x="1226" y="2246"/>
                      </a:lnTo>
                      <a:lnTo>
                        <a:pt x="1183" y="2222"/>
                      </a:lnTo>
                      <a:lnTo>
                        <a:pt x="1166" y="2259"/>
                      </a:lnTo>
                      <a:lnTo>
                        <a:pt x="1097" y="2271"/>
                      </a:lnTo>
                      <a:lnTo>
                        <a:pt x="1080" y="2246"/>
                      </a:lnTo>
                      <a:lnTo>
                        <a:pt x="1037" y="2309"/>
                      </a:lnTo>
                      <a:lnTo>
                        <a:pt x="986" y="2370"/>
                      </a:lnTo>
                      <a:lnTo>
                        <a:pt x="952" y="2370"/>
                      </a:lnTo>
                      <a:lnTo>
                        <a:pt x="900" y="2444"/>
                      </a:lnTo>
                      <a:lnTo>
                        <a:pt x="823" y="2444"/>
                      </a:lnTo>
                      <a:lnTo>
                        <a:pt x="763" y="2468"/>
                      </a:lnTo>
                      <a:lnTo>
                        <a:pt x="694" y="2505"/>
                      </a:lnTo>
                      <a:lnTo>
                        <a:pt x="659" y="2554"/>
                      </a:lnTo>
                      <a:lnTo>
                        <a:pt x="634" y="2542"/>
                      </a:lnTo>
                      <a:lnTo>
                        <a:pt x="608" y="2591"/>
                      </a:lnTo>
                      <a:lnTo>
                        <a:pt x="574" y="2603"/>
                      </a:lnTo>
                      <a:lnTo>
                        <a:pt x="531" y="2665"/>
                      </a:lnTo>
                      <a:lnTo>
                        <a:pt x="394" y="2665"/>
                      </a:lnTo>
                      <a:lnTo>
                        <a:pt x="334" y="2579"/>
                      </a:lnTo>
                      <a:lnTo>
                        <a:pt x="325" y="2542"/>
                      </a:lnTo>
                      <a:lnTo>
                        <a:pt x="308" y="2579"/>
                      </a:lnTo>
                      <a:lnTo>
                        <a:pt x="282" y="2517"/>
                      </a:lnTo>
                      <a:lnTo>
                        <a:pt x="291" y="2358"/>
                      </a:lnTo>
                      <a:lnTo>
                        <a:pt x="308" y="2259"/>
                      </a:lnTo>
                      <a:lnTo>
                        <a:pt x="282" y="2185"/>
                      </a:lnTo>
                      <a:lnTo>
                        <a:pt x="257" y="2111"/>
                      </a:lnTo>
                      <a:lnTo>
                        <a:pt x="248" y="2026"/>
                      </a:lnTo>
                      <a:lnTo>
                        <a:pt x="205" y="1989"/>
                      </a:lnTo>
                      <a:lnTo>
                        <a:pt x="197" y="1976"/>
                      </a:lnTo>
                      <a:lnTo>
                        <a:pt x="188" y="1940"/>
                      </a:lnTo>
                      <a:lnTo>
                        <a:pt x="128" y="1829"/>
                      </a:lnTo>
                      <a:lnTo>
                        <a:pt x="51" y="1559"/>
                      </a:lnTo>
                      <a:lnTo>
                        <a:pt x="25" y="1375"/>
                      </a:lnTo>
                      <a:lnTo>
                        <a:pt x="25" y="1265"/>
                      </a:lnTo>
                      <a:lnTo>
                        <a:pt x="0" y="1228"/>
                      </a:lnTo>
                      <a:lnTo>
                        <a:pt x="8" y="1130"/>
                      </a:lnTo>
                      <a:lnTo>
                        <a:pt x="34" y="1081"/>
                      </a:lnTo>
                      <a:lnTo>
                        <a:pt x="128" y="946"/>
                      </a:lnTo>
                      <a:lnTo>
                        <a:pt x="222" y="958"/>
                      </a:lnTo>
                      <a:lnTo>
                        <a:pt x="239" y="982"/>
                      </a:lnTo>
                      <a:lnTo>
                        <a:pt x="359" y="982"/>
                      </a:lnTo>
                      <a:lnTo>
                        <a:pt x="368" y="946"/>
                      </a:lnTo>
                      <a:lnTo>
                        <a:pt x="394" y="958"/>
                      </a:lnTo>
                      <a:lnTo>
                        <a:pt x="428" y="921"/>
                      </a:lnTo>
                      <a:lnTo>
                        <a:pt x="454" y="933"/>
                      </a:lnTo>
                      <a:lnTo>
                        <a:pt x="479" y="909"/>
                      </a:lnTo>
                      <a:lnTo>
                        <a:pt x="471" y="872"/>
                      </a:lnTo>
                      <a:lnTo>
                        <a:pt x="497" y="786"/>
                      </a:lnTo>
                      <a:lnTo>
                        <a:pt x="531" y="748"/>
                      </a:lnTo>
                      <a:lnTo>
                        <a:pt x="514" y="724"/>
                      </a:lnTo>
                      <a:lnTo>
                        <a:pt x="531" y="699"/>
                      </a:lnTo>
                      <a:lnTo>
                        <a:pt x="514" y="662"/>
                      </a:lnTo>
                      <a:lnTo>
                        <a:pt x="565" y="601"/>
                      </a:lnTo>
                      <a:lnTo>
                        <a:pt x="642" y="589"/>
                      </a:lnTo>
                      <a:lnTo>
                        <a:pt x="719" y="441"/>
                      </a:lnTo>
                      <a:lnTo>
                        <a:pt x="815" y="319"/>
                      </a:lnTo>
                      <a:lnTo>
                        <a:pt x="858" y="306"/>
                      </a:lnTo>
                      <a:lnTo>
                        <a:pt x="883" y="282"/>
                      </a:lnTo>
                      <a:lnTo>
                        <a:pt x="926" y="282"/>
                      </a:lnTo>
                      <a:lnTo>
                        <a:pt x="1003" y="380"/>
                      </a:lnTo>
                      <a:lnTo>
                        <a:pt x="1029" y="392"/>
                      </a:lnTo>
                      <a:lnTo>
                        <a:pt x="1055" y="343"/>
                      </a:lnTo>
                      <a:lnTo>
                        <a:pt x="1106" y="282"/>
                      </a:lnTo>
                      <a:lnTo>
                        <a:pt x="1140" y="270"/>
                      </a:lnTo>
                      <a:lnTo>
                        <a:pt x="1175" y="171"/>
                      </a:lnTo>
                      <a:lnTo>
                        <a:pt x="1209" y="159"/>
                      </a:lnTo>
                      <a:lnTo>
                        <a:pt x="1252" y="122"/>
                      </a:lnTo>
                      <a:lnTo>
                        <a:pt x="1295" y="85"/>
                      </a:lnTo>
                      <a:lnTo>
                        <a:pt x="1337" y="85"/>
                      </a:lnTo>
                      <a:lnTo>
                        <a:pt x="1372" y="36"/>
                      </a:lnTo>
                      <a:lnTo>
                        <a:pt x="1423" y="36"/>
                      </a:lnTo>
                      <a:lnTo>
                        <a:pt x="1483" y="36"/>
                      </a:lnTo>
                      <a:lnTo>
                        <a:pt x="1560" y="61"/>
                      </a:lnTo>
                      <a:lnTo>
                        <a:pt x="1612" y="110"/>
                      </a:lnTo>
                      <a:lnTo>
                        <a:pt x="1620" y="147"/>
                      </a:lnTo>
                      <a:lnTo>
                        <a:pt x="1629" y="171"/>
                      </a:lnTo>
                      <a:lnTo>
                        <a:pt x="1637" y="233"/>
                      </a:lnTo>
                      <a:lnTo>
                        <a:pt x="1629" y="257"/>
                      </a:lnTo>
                      <a:lnTo>
                        <a:pt x="1629" y="306"/>
                      </a:lnTo>
                      <a:lnTo>
                        <a:pt x="1620" y="343"/>
                      </a:lnTo>
                      <a:lnTo>
                        <a:pt x="1749" y="478"/>
                      </a:lnTo>
                      <a:lnTo>
                        <a:pt x="1792" y="552"/>
                      </a:lnTo>
                      <a:lnTo>
                        <a:pt x="1843" y="576"/>
                      </a:lnTo>
                      <a:lnTo>
                        <a:pt x="1894" y="613"/>
                      </a:lnTo>
                      <a:lnTo>
                        <a:pt x="1929" y="625"/>
                      </a:lnTo>
                      <a:lnTo>
                        <a:pt x="1980" y="589"/>
                      </a:lnTo>
                      <a:lnTo>
                        <a:pt x="2023" y="478"/>
                      </a:lnTo>
                      <a:lnTo>
                        <a:pt x="2040" y="392"/>
                      </a:lnTo>
                      <a:lnTo>
                        <a:pt x="2057" y="233"/>
                      </a:lnTo>
                      <a:lnTo>
                        <a:pt x="2074" y="159"/>
                      </a:lnTo>
                      <a:lnTo>
                        <a:pt x="2074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4920" cy="149760"/>
                </a:xfrm>
                <a:custGeom>
                  <a:avLst/>
                  <a:gdLst/>
                  <a:ahLst/>
                  <a:rect l="0" t="0" r="r" b="b"/>
                  <a:pathLst>
                    <a:path w="1597" h="416">
                      <a:moveTo>
                        <a:pt x="0" y="0"/>
                      </a:moveTo>
                      <a:lnTo>
                        <a:pt x="120" y="60"/>
                      </a:lnTo>
                      <a:lnTo>
                        <a:pt x="223" y="60"/>
                      </a:lnTo>
                      <a:lnTo>
                        <a:pt x="317" y="60"/>
                      </a:lnTo>
                      <a:lnTo>
                        <a:pt x="386" y="60"/>
                      </a:lnTo>
                      <a:lnTo>
                        <a:pt x="437" y="73"/>
                      </a:lnTo>
                      <a:lnTo>
                        <a:pt x="506" y="110"/>
                      </a:lnTo>
                      <a:lnTo>
                        <a:pt x="540" y="196"/>
                      </a:lnTo>
                      <a:lnTo>
                        <a:pt x="575" y="232"/>
                      </a:lnTo>
                      <a:lnTo>
                        <a:pt x="635" y="220"/>
                      </a:lnTo>
                      <a:lnTo>
                        <a:pt x="703" y="220"/>
                      </a:lnTo>
                      <a:lnTo>
                        <a:pt x="780" y="269"/>
                      </a:lnTo>
                      <a:lnTo>
                        <a:pt x="833" y="293"/>
                      </a:lnTo>
                      <a:lnTo>
                        <a:pt x="867" y="293"/>
                      </a:lnTo>
                      <a:lnTo>
                        <a:pt x="876" y="232"/>
                      </a:lnTo>
                      <a:lnTo>
                        <a:pt x="902" y="196"/>
                      </a:lnTo>
                      <a:lnTo>
                        <a:pt x="1005" y="220"/>
                      </a:lnTo>
                      <a:lnTo>
                        <a:pt x="1090" y="220"/>
                      </a:lnTo>
                      <a:lnTo>
                        <a:pt x="1168" y="220"/>
                      </a:lnTo>
                      <a:lnTo>
                        <a:pt x="1228" y="257"/>
                      </a:lnTo>
                      <a:lnTo>
                        <a:pt x="1262" y="281"/>
                      </a:lnTo>
                      <a:lnTo>
                        <a:pt x="1322" y="269"/>
                      </a:lnTo>
                      <a:lnTo>
                        <a:pt x="1365" y="244"/>
                      </a:lnTo>
                      <a:lnTo>
                        <a:pt x="1391" y="220"/>
                      </a:lnTo>
                      <a:lnTo>
                        <a:pt x="1460" y="220"/>
                      </a:lnTo>
                      <a:lnTo>
                        <a:pt x="1502" y="196"/>
                      </a:lnTo>
                      <a:lnTo>
                        <a:pt x="1562" y="171"/>
                      </a:lnTo>
                      <a:lnTo>
                        <a:pt x="1597" y="171"/>
                      </a:lnTo>
                      <a:lnTo>
                        <a:pt x="1588" y="257"/>
                      </a:lnTo>
                      <a:lnTo>
                        <a:pt x="1571" y="293"/>
                      </a:lnTo>
                      <a:lnTo>
                        <a:pt x="1537" y="331"/>
                      </a:lnTo>
                      <a:lnTo>
                        <a:pt x="1502" y="331"/>
                      </a:lnTo>
                      <a:lnTo>
                        <a:pt x="1494" y="331"/>
                      </a:lnTo>
                      <a:lnTo>
                        <a:pt x="1451" y="343"/>
                      </a:lnTo>
                      <a:lnTo>
                        <a:pt x="1417" y="392"/>
                      </a:lnTo>
                      <a:lnTo>
                        <a:pt x="1382" y="379"/>
                      </a:lnTo>
                      <a:lnTo>
                        <a:pt x="1348" y="355"/>
                      </a:lnTo>
                      <a:lnTo>
                        <a:pt x="1314" y="379"/>
                      </a:lnTo>
                      <a:lnTo>
                        <a:pt x="1279" y="392"/>
                      </a:lnTo>
                      <a:lnTo>
                        <a:pt x="1254" y="392"/>
                      </a:lnTo>
                      <a:lnTo>
                        <a:pt x="1228" y="416"/>
                      </a:lnTo>
                      <a:lnTo>
                        <a:pt x="1159" y="416"/>
                      </a:lnTo>
                      <a:lnTo>
                        <a:pt x="1133" y="379"/>
                      </a:lnTo>
                      <a:lnTo>
                        <a:pt x="1099" y="331"/>
                      </a:lnTo>
                      <a:lnTo>
                        <a:pt x="1056" y="379"/>
                      </a:lnTo>
                      <a:lnTo>
                        <a:pt x="1030" y="416"/>
                      </a:lnTo>
                      <a:lnTo>
                        <a:pt x="996" y="416"/>
                      </a:lnTo>
                      <a:lnTo>
                        <a:pt x="936" y="331"/>
                      </a:lnTo>
                      <a:lnTo>
                        <a:pt x="919" y="343"/>
                      </a:lnTo>
                      <a:lnTo>
                        <a:pt x="884" y="343"/>
                      </a:lnTo>
                      <a:lnTo>
                        <a:pt x="859" y="392"/>
                      </a:lnTo>
                      <a:lnTo>
                        <a:pt x="807" y="379"/>
                      </a:lnTo>
                      <a:lnTo>
                        <a:pt x="755" y="379"/>
                      </a:lnTo>
                      <a:lnTo>
                        <a:pt x="729" y="355"/>
                      </a:lnTo>
                      <a:lnTo>
                        <a:pt x="695" y="331"/>
                      </a:lnTo>
                      <a:lnTo>
                        <a:pt x="643" y="343"/>
                      </a:lnTo>
                      <a:lnTo>
                        <a:pt x="592" y="392"/>
                      </a:lnTo>
                      <a:lnTo>
                        <a:pt x="557" y="379"/>
                      </a:lnTo>
                      <a:lnTo>
                        <a:pt x="506" y="355"/>
                      </a:lnTo>
                      <a:lnTo>
                        <a:pt x="446" y="318"/>
                      </a:lnTo>
                      <a:lnTo>
                        <a:pt x="394" y="318"/>
                      </a:lnTo>
                      <a:lnTo>
                        <a:pt x="291" y="281"/>
                      </a:lnTo>
                      <a:lnTo>
                        <a:pt x="223" y="257"/>
                      </a:lnTo>
                      <a:lnTo>
                        <a:pt x="180" y="244"/>
                      </a:lnTo>
                      <a:lnTo>
                        <a:pt x="111" y="232"/>
                      </a:lnTo>
                      <a:lnTo>
                        <a:pt x="68" y="183"/>
                      </a:lnTo>
                      <a:lnTo>
                        <a:pt x="25" y="171"/>
                      </a:lnTo>
                      <a:lnTo>
                        <a:pt x="8" y="159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0640" cy="287640"/>
                </a:xfrm>
                <a:custGeom>
                  <a:avLst/>
                  <a:gdLst/>
                  <a:ahLst/>
                  <a:rect l="0" t="0" r="r" b="b"/>
                  <a:pathLst>
                    <a:path w="724" h="799">
                      <a:moveTo>
                        <a:pt x="180" y="0"/>
                      </a:moveTo>
                      <a:lnTo>
                        <a:pt x="352" y="12"/>
                      </a:lnTo>
                      <a:lnTo>
                        <a:pt x="517" y="12"/>
                      </a:lnTo>
                      <a:lnTo>
                        <a:pt x="603" y="0"/>
                      </a:lnTo>
                      <a:lnTo>
                        <a:pt x="724" y="73"/>
                      </a:lnTo>
                      <a:lnTo>
                        <a:pt x="646" y="98"/>
                      </a:lnTo>
                      <a:lnTo>
                        <a:pt x="603" y="135"/>
                      </a:lnTo>
                      <a:lnTo>
                        <a:pt x="577" y="159"/>
                      </a:lnTo>
                      <a:lnTo>
                        <a:pt x="560" y="184"/>
                      </a:lnTo>
                      <a:lnTo>
                        <a:pt x="560" y="208"/>
                      </a:lnTo>
                      <a:lnTo>
                        <a:pt x="560" y="245"/>
                      </a:lnTo>
                      <a:lnTo>
                        <a:pt x="508" y="270"/>
                      </a:lnTo>
                      <a:lnTo>
                        <a:pt x="465" y="270"/>
                      </a:lnTo>
                      <a:lnTo>
                        <a:pt x="448" y="282"/>
                      </a:lnTo>
                      <a:lnTo>
                        <a:pt x="405" y="282"/>
                      </a:lnTo>
                      <a:lnTo>
                        <a:pt x="388" y="245"/>
                      </a:lnTo>
                      <a:lnTo>
                        <a:pt x="352" y="196"/>
                      </a:lnTo>
                      <a:lnTo>
                        <a:pt x="318" y="159"/>
                      </a:lnTo>
                      <a:lnTo>
                        <a:pt x="249" y="159"/>
                      </a:lnTo>
                      <a:lnTo>
                        <a:pt x="232" y="159"/>
                      </a:lnTo>
                      <a:lnTo>
                        <a:pt x="215" y="221"/>
                      </a:lnTo>
                      <a:lnTo>
                        <a:pt x="223" y="282"/>
                      </a:lnTo>
                      <a:lnTo>
                        <a:pt x="223" y="319"/>
                      </a:lnTo>
                      <a:lnTo>
                        <a:pt x="232" y="356"/>
                      </a:lnTo>
                      <a:lnTo>
                        <a:pt x="266" y="343"/>
                      </a:lnTo>
                      <a:lnTo>
                        <a:pt x="318" y="306"/>
                      </a:lnTo>
                      <a:lnTo>
                        <a:pt x="352" y="306"/>
                      </a:lnTo>
                      <a:lnTo>
                        <a:pt x="379" y="331"/>
                      </a:lnTo>
                      <a:lnTo>
                        <a:pt x="379" y="356"/>
                      </a:lnTo>
                      <a:lnTo>
                        <a:pt x="361" y="406"/>
                      </a:lnTo>
                      <a:lnTo>
                        <a:pt x="352" y="430"/>
                      </a:lnTo>
                      <a:lnTo>
                        <a:pt x="352" y="455"/>
                      </a:lnTo>
                      <a:lnTo>
                        <a:pt x="344" y="492"/>
                      </a:lnTo>
                      <a:lnTo>
                        <a:pt x="361" y="529"/>
                      </a:lnTo>
                      <a:lnTo>
                        <a:pt x="397" y="578"/>
                      </a:lnTo>
                      <a:lnTo>
                        <a:pt x="405" y="565"/>
                      </a:lnTo>
                      <a:lnTo>
                        <a:pt x="405" y="614"/>
                      </a:lnTo>
                      <a:lnTo>
                        <a:pt x="388" y="651"/>
                      </a:lnTo>
                      <a:lnTo>
                        <a:pt x="371" y="688"/>
                      </a:lnTo>
                      <a:lnTo>
                        <a:pt x="361" y="750"/>
                      </a:lnTo>
                      <a:lnTo>
                        <a:pt x="327" y="774"/>
                      </a:lnTo>
                      <a:lnTo>
                        <a:pt x="301" y="774"/>
                      </a:lnTo>
                      <a:lnTo>
                        <a:pt x="275" y="774"/>
                      </a:lnTo>
                      <a:lnTo>
                        <a:pt x="275" y="725"/>
                      </a:lnTo>
                      <a:lnTo>
                        <a:pt x="266" y="639"/>
                      </a:lnTo>
                      <a:lnTo>
                        <a:pt x="241" y="614"/>
                      </a:lnTo>
                      <a:lnTo>
                        <a:pt x="232" y="578"/>
                      </a:lnTo>
                      <a:lnTo>
                        <a:pt x="241" y="504"/>
                      </a:lnTo>
                      <a:lnTo>
                        <a:pt x="215" y="479"/>
                      </a:lnTo>
                      <a:lnTo>
                        <a:pt x="154" y="504"/>
                      </a:lnTo>
                      <a:lnTo>
                        <a:pt x="129" y="479"/>
                      </a:lnTo>
                      <a:lnTo>
                        <a:pt x="103" y="516"/>
                      </a:lnTo>
                      <a:lnTo>
                        <a:pt x="129" y="541"/>
                      </a:lnTo>
                      <a:lnTo>
                        <a:pt x="172" y="565"/>
                      </a:lnTo>
                      <a:lnTo>
                        <a:pt x="180" y="590"/>
                      </a:lnTo>
                      <a:lnTo>
                        <a:pt x="206" y="639"/>
                      </a:lnTo>
                      <a:lnTo>
                        <a:pt x="206" y="676"/>
                      </a:lnTo>
                      <a:lnTo>
                        <a:pt x="180" y="737"/>
                      </a:lnTo>
                      <a:lnTo>
                        <a:pt x="146" y="786"/>
                      </a:lnTo>
                      <a:lnTo>
                        <a:pt x="129" y="799"/>
                      </a:lnTo>
                      <a:lnTo>
                        <a:pt x="129" y="762"/>
                      </a:lnTo>
                      <a:lnTo>
                        <a:pt x="129" y="725"/>
                      </a:lnTo>
                      <a:lnTo>
                        <a:pt x="137" y="676"/>
                      </a:lnTo>
                      <a:lnTo>
                        <a:pt x="94" y="639"/>
                      </a:lnTo>
                      <a:lnTo>
                        <a:pt x="51" y="602"/>
                      </a:lnTo>
                      <a:lnTo>
                        <a:pt x="43" y="565"/>
                      </a:lnTo>
                      <a:lnTo>
                        <a:pt x="0" y="541"/>
                      </a:lnTo>
                      <a:lnTo>
                        <a:pt x="8" y="479"/>
                      </a:lnTo>
                      <a:lnTo>
                        <a:pt x="43" y="443"/>
                      </a:lnTo>
                      <a:lnTo>
                        <a:pt x="68" y="380"/>
                      </a:lnTo>
                      <a:lnTo>
                        <a:pt x="94" y="319"/>
                      </a:lnTo>
                      <a:lnTo>
                        <a:pt x="103" y="257"/>
                      </a:lnTo>
                      <a:lnTo>
                        <a:pt x="94" y="196"/>
                      </a:lnTo>
                      <a:lnTo>
                        <a:pt x="111" y="171"/>
                      </a:lnTo>
                      <a:lnTo>
                        <a:pt x="129" y="147"/>
                      </a:lnTo>
                      <a:lnTo>
                        <a:pt x="103" y="9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7640" cy="394200"/>
                </a:xfrm>
                <a:custGeom>
                  <a:avLst/>
                  <a:gdLst/>
                  <a:ahLst/>
                  <a:rect l="0" t="0" r="r" b="b"/>
                  <a:pathLst>
                    <a:path w="799" h="1095">
                      <a:moveTo>
                        <a:pt x="0" y="365"/>
                      </a:moveTo>
                      <a:lnTo>
                        <a:pt x="163" y="194"/>
                      </a:lnTo>
                      <a:lnTo>
                        <a:pt x="248" y="121"/>
                      </a:lnTo>
                      <a:lnTo>
                        <a:pt x="291" y="60"/>
                      </a:lnTo>
                      <a:lnTo>
                        <a:pt x="421" y="0"/>
                      </a:lnTo>
                      <a:lnTo>
                        <a:pt x="490" y="133"/>
                      </a:lnTo>
                      <a:lnTo>
                        <a:pt x="558" y="72"/>
                      </a:lnTo>
                      <a:lnTo>
                        <a:pt x="584" y="36"/>
                      </a:lnTo>
                      <a:lnTo>
                        <a:pt x="644" y="0"/>
                      </a:lnTo>
                      <a:lnTo>
                        <a:pt x="679" y="0"/>
                      </a:lnTo>
                      <a:lnTo>
                        <a:pt x="687" y="48"/>
                      </a:lnTo>
                      <a:lnTo>
                        <a:pt x="687" y="85"/>
                      </a:lnTo>
                      <a:lnTo>
                        <a:pt x="653" y="145"/>
                      </a:lnTo>
                      <a:lnTo>
                        <a:pt x="653" y="182"/>
                      </a:lnTo>
                      <a:lnTo>
                        <a:pt x="747" y="341"/>
                      </a:lnTo>
                      <a:lnTo>
                        <a:pt x="764" y="438"/>
                      </a:lnTo>
                      <a:lnTo>
                        <a:pt x="790" y="438"/>
                      </a:lnTo>
                      <a:lnTo>
                        <a:pt x="799" y="487"/>
                      </a:lnTo>
                      <a:lnTo>
                        <a:pt x="764" y="535"/>
                      </a:lnTo>
                      <a:lnTo>
                        <a:pt x="739" y="511"/>
                      </a:lnTo>
                      <a:lnTo>
                        <a:pt x="679" y="547"/>
                      </a:lnTo>
                      <a:lnTo>
                        <a:pt x="687" y="645"/>
                      </a:lnTo>
                      <a:lnTo>
                        <a:pt x="618" y="705"/>
                      </a:lnTo>
                      <a:lnTo>
                        <a:pt x="618" y="864"/>
                      </a:lnTo>
                      <a:lnTo>
                        <a:pt x="618" y="974"/>
                      </a:lnTo>
                      <a:lnTo>
                        <a:pt x="584" y="1022"/>
                      </a:lnTo>
                      <a:lnTo>
                        <a:pt x="558" y="1095"/>
                      </a:lnTo>
                      <a:lnTo>
                        <a:pt x="524" y="1083"/>
                      </a:lnTo>
                      <a:lnTo>
                        <a:pt x="473" y="1047"/>
                      </a:lnTo>
                      <a:lnTo>
                        <a:pt x="430" y="1010"/>
                      </a:lnTo>
                      <a:lnTo>
                        <a:pt x="394" y="949"/>
                      </a:lnTo>
                      <a:lnTo>
                        <a:pt x="274" y="961"/>
                      </a:lnTo>
                      <a:lnTo>
                        <a:pt x="171" y="925"/>
                      </a:lnTo>
                      <a:lnTo>
                        <a:pt x="102" y="828"/>
                      </a:lnTo>
                      <a:lnTo>
                        <a:pt x="60" y="754"/>
                      </a:lnTo>
                      <a:lnTo>
                        <a:pt x="25" y="693"/>
                      </a:lnTo>
                      <a:lnTo>
                        <a:pt x="25" y="572"/>
                      </a:lnTo>
                      <a:lnTo>
                        <a:pt x="0" y="365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1160" cy="371880"/>
                </a:xfrm>
                <a:custGeom>
                  <a:avLst/>
                  <a:gdLst/>
                  <a:ahLst/>
                  <a:rect l="0" t="0" r="r" b="b"/>
                  <a:pathLst>
                    <a:path w="1531" h="1033">
                      <a:moveTo>
                        <a:pt x="0" y="0"/>
                      </a:moveTo>
                      <a:lnTo>
                        <a:pt x="137" y="12"/>
                      </a:lnTo>
                      <a:lnTo>
                        <a:pt x="249" y="24"/>
                      </a:lnTo>
                      <a:lnTo>
                        <a:pt x="300" y="171"/>
                      </a:lnTo>
                      <a:lnTo>
                        <a:pt x="309" y="221"/>
                      </a:lnTo>
                      <a:lnTo>
                        <a:pt x="326" y="245"/>
                      </a:lnTo>
                      <a:lnTo>
                        <a:pt x="361" y="208"/>
                      </a:lnTo>
                      <a:lnTo>
                        <a:pt x="421" y="208"/>
                      </a:lnTo>
                      <a:lnTo>
                        <a:pt x="455" y="245"/>
                      </a:lnTo>
                      <a:lnTo>
                        <a:pt x="472" y="233"/>
                      </a:lnTo>
                      <a:lnTo>
                        <a:pt x="524" y="171"/>
                      </a:lnTo>
                      <a:lnTo>
                        <a:pt x="532" y="171"/>
                      </a:lnTo>
                      <a:lnTo>
                        <a:pt x="575" y="135"/>
                      </a:lnTo>
                      <a:lnTo>
                        <a:pt x="618" y="135"/>
                      </a:lnTo>
                      <a:lnTo>
                        <a:pt x="756" y="208"/>
                      </a:lnTo>
                      <a:lnTo>
                        <a:pt x="817" y="208"/>
                      </a:lnTo>
                      <a:lnTo>
                        <a:pt x="877" y="271"/>
                      </a:lnTo>
                      <a:lnTo>
                        <a:pt x="938" y="295"/>
                      </a:lnTo>
                      <a:lnTo>
                        <a:pt x="989" y="344"/>
                      </a:lnTo>
                      <a:lnTo>
                        <a:pt x="1032" y="357"/>
                      </a:lnTo>
                      <a:lnTo>
                        <a:pt x="1144" y="406"/>
                      </a:lnTo>
                      <a:lnTo>
                        <a:pt x="1195" y="492"/>
                      </a:lnTo>
                      <a:lnTo>
                        <a:pt x="1221" y="541"/>
                      </a:lnTo>
                      <a:lnTo>
                        <a:pt x="1213" y="566"/>
                      </a:lnTo>
                      <a:lnTo>
                        <a:pt x="1256" y="615"/>
                      </a:lnTo>
                      <a:lnTo>
                        <a:pt x="1290" y="627"/>
                      </a:lnTo>
                      <a:lnTo>
                        <a:pt x="1307" y="639"/>
                      </a:lnTo>
                      <a:lnTo>
                        <a:pt x="1350" y="652"/>
                      </a:lnTo>
                      <a:lnTo>
                        <a:pt x="1419" y="725"/>
                      </a:lnTo>
                      <a:lnTo>
                        <a:pt x="1419" y="774"/>
                      </a:lnTo>
                      <a:lnTo>
                        <a:pt x="1462" y="825"/>
                      </a:lnTo>
                      <a:lnTo>
                        <a:pt x="1470" y="849"/>
                      </a:lnTo>
                      <a:lnTo>
                        <a:pt x="1531" y="947"/>
                      </a:lnTo>
                      <a:lnTo>
                        <a:pt x="1479" y="1033"/>
                      </a:lnTo>
                      <a:lnTo>
                        <a:pt x="1462" y="1033"/>
                      </a:lnTo>
                      <a:lnTo>
                        <a:pt x="1410" y="1033"/>
                      </a:lnTo>
                      <a:lnTo>
                        <a:pt x="1393" y="997"/>
                      </a:lnTo>
                      <a:lnTo>
                        <a:pt x="1367" y="997"/>
                      </a:lnTo>
                      <a:lnTo>
                        <a:pt x="1342" y="1009"/>
                      </a:lnTo>
                      <a:lnTo>
                        <a:pt x="1213" y="812"/>
                      </a:lnTo>
                      <a:lnTo>
                        <a:pt x="1135" y="825"/>
                      </a:lnTo>
                      <a:lnTo>
                        <a:pt x="1058" y="812"/>
                      </a:lnTo>
                      <a:lnTo>
                        <a:pt x="1032" y="837"/>
                      </a:lnTo>
                      <a:lnTo>
                        <a:pt x="1006" y="874"/>
                      </a:lnTo>
                      <a:lnTo>
                        <a:pt x="998" y="849"/>
                      </a:lnTo>
                      <a:lnTo>
                        <a:pt x="963" y="911"/>
                      </a:lnTo>
                      <a:lnTo>
                        <a:pt x="912" y="997"/>
                      </a:lnTo>
                      <a:lnTo>
                        <a:pt x="869" y="960"/>
                      </a:lnTo>
                      <a:lnTo>
                        <a:pt x="817" y="935"/>
                      </a:lnTo>
                      <a:lnTo>
                        <a:pt x="783" y="935"/>
                      </a:lnTo>
                      <a:lnTo>
                        <a:pt x="730" y="911"/>
                      </a:lnTo>
                      <a:lnTo>
                        <a:pt x="704" y="935"/>
                      </a:lnTo>
                      <a:lnTo>
                        <a:pt x="670" y="812"/>
                      </a:lnTo>
                      <a:lnTo>
                        <a:pt x="610" y="701"/>
                      </a:lnTo>
                      <a:lnTo>
                        <a:pt x="550" y="566"/>
                      </a:lnTo>
                      <a:lnTo>
                        <a:pt x="498" y="492"/>
                      </a:lnTo>
                      <a:lnTo>
                        <a:pt x="455" y="418"/>
                      </a:lnTo>
                      <a:lnTo>
                        <a:pt x="361" y="418"/>
                      </a:lnTo>
                      <a:lnTo>
                        <a:pt x="275" y="455"/>
                      </a:lnTo>
                      <a:lnTo>
                        <a:pt x="232" y="406"/>
                      </a:lnTo>
                      <a:lnTo>
                        <a:pt x="146" y="369"/>
                      </a:lnTo>
                      <a:lnTo>
                        <a:pt x="103" y="332"/>
                      </a:lnTo>
                      <a:lnTo>
                        <a:pt x="103" y="184"/>
                      </a:lnTo>
                      <a:lnTo>
                        <a:pt x="111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0480" cy="491040"/>
                </a:xfrm>
                <a:custGeom>
                  <a:avLst/>
                  <a:gdLst/>
                  <a:ahLst/>
                  <a:rect l="0" t="0" r="r" b="b"/>
                  <a:pathLst>
                    <a:path w="918" h="1364">
                      <a:moveTo>
                        <a:pt x="0" y="36"/>
                      </a:moveTo>
                      <a:lnTo>
                        <a:pt x="93" y="0"/>
                      </a:lnTo>
                      <a:lnTo>
                        <a:pt x="203" y="61"/>
                      </a:lnTo>
                      <a:lnTo>
                        <a:pt x="220" y="122"/>
                      </a:lnTo>
                      <a:lnTo>
                        <a:pt x="220" y="147"/>
                      </a:lnTo>
                      <a:lnTo>
                        <a:pt x="246" y="159"/>
                      </a:lnTo>
                      <a:lnTo>
                        <a:pt x="246" y="184"/>
                      </a:lnTo>
                      <a:lnTo>
                        <a:pt x="280" y="196"/>
                      </a:lnTo>
                      <a:lnTo>
                        <a:pt x="280" y="245"/>
                      </a:lnTo>
                      <a:lnTo>
                        <a:pt x="390" y="393"/>
                      </a:lnTo>
                      <a:lnTo>
                        <a:pt x="407" y="393"/>
                      </a:lnTo>
                      <a:lnTo>
                        <a:pt x="424" y="430"/>
                      </a:lnTo>
                      <a:lnTo>
                        <a:pt x="441" y="467"/>
                      </a:lnTo>
                      <a:lnTo>
                        <a:pt x="458" y="467"/>
                      </a:lnTo>
                      <a:lnTo>
                        <a:pt x="536" y="516"/>
                      </a:lnTo>
                      <a:lnTo>
                        <a:pt x="680" y="541"/>
                      </a:lnTo>
                      <a:lnTo>
                        <a:pt x="688" y="712"/>
                      </a:lnTo>
                      <a:lnTo>
                        <a:pt x="722" y="737"/>
                      </a:lnTo>
                      <a:lnTo>
                        <a:pt x="714" y="798"/>
                      </a:lnTo>
                      <a:lnTo>
                        <a:pt x="799" y="884"/>
                      </a:lnTo>
                      <a:lnTo>
                        <a:pt x="875" y="921"/>
                      </a:lnTo>
                      <a:lnTo>
                        <a:pt x="875" y="1205"/>
                      </a:lnTo>
                      <a:lnTo>
                        <a:pt x="918" y="1315"/>
                      </a:lnTo>
                      <a:lnTo>
                        <a:pt x="892" y="1352"/>
                      </a:lnTo>
                      <a:lnTo>
                        <a:pt x="841" y="1364"/>
                      </a:lnTo>
                      <a:lnTo>
                        <a:pt x="833" y="1266"/>
                      </a:lnTo>
                      <a:lnTo>
                        <a:pt x="748" y="1364"/>
                      </a:lnTo>
                      <a:lnTo>
                        <a:pt x="688" y="1217"/>
                      </a:lnTo>
                      <a:lnTo>
                        <a:pt x="654" y="1119"/>
                      </a:lnTo>
                      <a:lnTo>
                        <a:pt x="553" y="983"/>
                      </a:lnTo>
                      <a:lnTo>
                        <a:pt x="527" y="983"/>
                      </a:lnTo>
                      <a:lnTo>
                        <a:pt x="433" y="909"/>
                      </a:lnTo>
                      <a:lnTo>
                        <a:pt x="416" y="835"/>
                      </a:lnTo>
                      <a:lnTo>
                        <a:pt x="416" y="786"/>
                      </a:lnTo>
                      <a:lnTo>
                        <a:pt x="339" y="590"/>
                      </a:lnTo>
                      <a:lnTo>
                        <a:pt x="305" y="467"/>
                      </a:lnTo>
                      <a:lnTo>
                        <a:pt x="212" y="356"/>
                      </a:lnTo>
                      <a:lnTo>
                        <a:pt x="84" y="18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4360" cy="540000"/>
                </a:xfrm>
                <a:custGeom>
                  <a:avLst/>
                  <a:gdLst/>
                  <a:ahLst/>
                  <a:rect l="0" t="0" r="r" b="b"/>
                  <a:pathLst>
                    <a:path w="901" h="1500">
                      <a:moveTo>
                        <a:pt x="60" y="0"/>
                      </a:moveTo>
                      <a:lnTo>
                        <a:pt x="138" y="0"/>
                      </a:lnTo>
                      <a:lnTo>
                        <a:pt x="224" y="159"/>
                      </a:lnTo>
                      <a:lnTo>
                        <a:pt x="207" y="307"/>
                      </a:lnTo>
                      <a:lnTo>
                        <a:pt x="260" y="356"/>
                      </a:lnTo>
                      <a:lnTo>
                        <a:pt x="286" y="454"/>
                      </a:lnTo>
                      <a:lnTo>
                        <a:pt x="346" y="503"/>
                      </a:lnTo>
                      <a:lnTo>
                        <a:pt x="416" y="516"/>
                      </a:lnTo>
                      <a:lnTo>
                        <a:pt x="519" y="589"/>
                      </a:lnTo>
                      <a:lnTo>
                        <a:pt x="589" y="675"/>
                      </a:lnTo>
                      <a:lnTo>
                        <a:pt x="606" y="675"/>
                      </a:lnTo>
                      <a:lnTo>
                        <a:pt x="693" y="749"/>
                      </a:lnTo>
                      <a:lnTo>
                        <a:pt x="693" y="934"/>
                      </a:lnTo>
                      <a:lnTo>
                        <a:pt x="719" y="1021"/>
                      </a:lnTo>
                      <a:lnTo>
                        <a:pt x="745" y="1070"/>
                      </a:lnTo>
                      <a:lnTo>
                        <a:pt x="780" y="1119"/>
                      </a:lnTo>
                      <a:lnTo>
                        <a:pt x="815" y="1180"/>
                      </a:lnTo>
                      <a:lnTo>
                        <a:pt x="832" y="1254"/>
                      </a:lnTo>
                      <a:lnTo>
                        <a:pt x="901" y="1315"/>
                      </a:lnTo>
                      <a:lnTo>
                        <a:pt x="892" y="1389"/>
                      </a:lnTo>
                      <a:lnTo>
                        <a:pt x="823" y="1401"/>
                      </a:lnTo>
                      <a:lnTo>
                        <a:pt x="797" y="1340"/>
                      </a:lnTo>
                      <a:lnTo>
                        <a:pt x="745" y="1340"/>
                      </a:lnTo>
                      <a:lnTo>
                        <a:pt x="745" y="1500"/>
                      </a:lnTo>
                      <a:lnTo>
                        <a:pt x="702" y="1500"/>
                      </a:lnTo>
                      <a:lnTo>
                        <a:pt x="649" y="1426"/>
                      </a:lnTo>
                      <a:lnTo>
                        <a:pt x="615" y="1389"/>
                      </a:lnTo>
                      <a:lnTo>
                        <a:pt x="615" y="1303"/>
                      </a:lnTo>
                      <a:lnTo>
                        <a:pt x="537" y="1303"/>
                      </a:lnTo>
                      <a:lnTo>
                        <a:pt x="511" y="1389"/>
                      </a:lnTo>
                      <a:lnTo>
                        <a:pt x="485" y="1303"/>
                      </a:lnTo>
                      <a:lnTo>
                        <a:pt x="476" y="1217"/>
                      </a:lnTo>
                      <a:lnTo>
                        <a:pt x="571" y="1180"/>
                      </a:lnTo>
                      <a:lnTo>
                        <a:pt x="623" y="1205"/>
                      </a:lnTo>
                      <a:lnTo>
                        <a:pt x="632" y="1057"/>
                      </a:lnTo>
                      <a:lnTo>
                        <a:pt x="580" y="1008"/>
                      </a:lnTo>
                      <a:lnTo>
                        <a:pt x="545" y="885"/>
                      </a:lnTo>
                      <a:lnTo>
                        <a:pt x="519" y="737"/>
                      </a:lnTo>
                      <a:lnTo>
                        <a:pt x="424" y="688"/>
                      </a:lnTo>
                      <a:lnTo>
                        <a:pt x="381" y="626"/>
                      </a:lnTo>
                      <a:lnTo>
                        <a:pt x="303" y="589"/>
                      </a:lnTo>
                      <a:lnTo>
                        <a:pt x="346" y="725"/>
                      </a:lnTo>
                      <a:lnTo>
                        <a:pt x="260" y="787"/>
                      </a:lnTo>
                      <a:lnTo>
                        <a:pt x="207" y="639"/>
                      </a:lnTo>
                      <a:lnTo>
                        <a:pt x="164" y="602"/>
                      </a:lnTo>
                      <a:lnTo>
                        <a:pt x="164" y="516"/>
                      </a:lnTo>
                      <a:lnTo>
                        <a:pt x="103" y="417"/>
                      </a:lnTo>
                      <a:lnTo>
                        <a:pt x="34" y="356"/>
                      </a:lnTo>
                      <a:lnTo>
                        <a:pt x="0" y="294"/>
                      </a:lnTo>
                      <a:lnTo>
                        <a:pt x="17" y="245"/>
                      </a:lnTo>
                      <a:lnTo>
                        <a:pt x="69" y="270"/>
                      </a:lnTo>
                      <a:lnTo>
                        <a:pt x="86" y="208"/>
                      </a:lnTo>
                      <a:lnTo>
                        <a:pt x="69" y="12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6880" cy="457560"/>
                </a:xfrm>
                <a:custGeom>
                  <a:avLst/>
                  <a:gdLst/>
                  <a:ahLst/>
                  <a:rect l="0" t="0" r="r" b="b"/>
                  <a:pathLst>
                    <a:path w="658" h="1271">
                      <a:moveTo>
                        <a:pt x="136" y="0"/>
                      </a:moveTo>
                      <a:lnTo>
                        <a:pt x="264" y="86"/>
                      </a:lnTo>
                      <a:lnTo>
                        <a:pt x="342" y="160"/>
                      </a:lnTo>
                      <a:lnTo>
                        <a:pt x="393" y="271"/>
                      </a:lnTo>
                      <a:lnTo>
                        <a:pt x="436" y="271"/>
                      </a:lnTo>
                      <a:lnTo>
                        <a:pt x="427" y="346"/>
                      </a:lnTo>
                      <a:lnTo>
                        <a:pt x="478" y="395"/>
                      </a:lnTo>
                      <a:lnTo>
                        <a:pt x="512" y="469"/>
                      </a:lnTo>
                      <a:lnTo>
                        <a:pt x="598" y="617"/>
                      </a:lnTo>
                      <a:lnTo>
                        <a:pt x="658" y="790"/>
                      </a:lnTo>
                      <a:lnTo>
                        <a:pt x="547" y="777"/>
                      </a:lnTo>
                      <a:lnTo>
                        <a:pt x="461" y="753"/>
                      </a:lnTo>
                      <a:lnTo>
                        <a:pt x="521" y="876"/>
                      </a:lnTo>
                      <a:lnTo>
                        <a:pt x="521" y="950"/>
                      </a:lnTo>
                      <a:lnTo>
                        <a:pt x="521" y="1025"/>
                      </a:lnTo>
                      <a:lnTo>
                        <a:pt x="487" y="988"/>
                      </a:lnTo>
                      <a:lnTo>
                        <a:pt x="444" y="925"/>
                      </a:lnTo>
                      <a:lnTo>
                        <a:pt x="367" y="851"/>
                      </a:lnTo>
                      <a:lnTo>
                        <a:pt x="324" y="814"/>
                      </a:lnTo>
                      <a:lnTo>
                        <a:pt x="255" y="851"/>
                      </a:lnTo>
                      <a:lnTo>
                        <a:pt x="213" y="876"/>
                      </a:lnTo>
                      <a:lnTo>
                        <a:pt x="238" y="938"/>
                      </a:lnTo>
                      <a:lnTo>
                        <a:pt x="307" y="988"/>
                      </a:lnTo>
                      <a:lnTo>
                        <a:pt x="376" y="1037"/>
                      </a:lnTo>
                      <a:lnTo>
                        <a:pt x="402" y="1124"/>
                      </a:lnTo>
                      <a:lnTo>
                        <a:pt x="393" y="1235"/>
                      </a:lnTo>
                      <a:lnTo>
                        <a:pt x="393" y="1271"/>
                      </a:lnTo>
                      <a:lnTo>
                        <a:pt x="367" y="1271"/>
                      </a:lnTo>
                      <a:lnTo>
                        <a:pt x="324" y="1235"/>
                      </a:lnTo>
                      <a:lnTo>
                        <a:pt x="307" y="1222"/>
                      </a:lnTo>
                      <a:lnTo>
                        <a:pt x="281" y="1198"/>
                      </a:lnTo>
                      <a:lnTo>
                        <a:pt x="255" y="1259"/>
                      </a:lnTo>
                      <a:lnTo>
                        <a:pt x="213" y="1271"/>
                      </a:lnTo>
                      <a:lnTo>
                        <a:pt x="179" y="1222"/>
                      </a:lnTo>
                      <a:lnTo>
                        <a:pt x="179" y="1111"/>
                      </a:lnTo>
                      <a:lnTo>
                        <a:pt x="170" y="1050"/>
                      </a:lnTo>
                      <a:lnTo>
                        <a:pt x="127" y="1013"/>
                      </a:lnTo>
                      <a:lnTo>
                        <a:pt x="85" y="1074"/>
                      </a:lnTo>
                      <a:lnTo>
                        <a:pt x="17" y="1074"/>
                      </a:lnTo>
                      <a:lnTo>
                        <a:pt x="0" y="1025"/>
                      </a:lnTo>
                      <a:lnTo>
                        <a:pt x="17" y="901"/>
                      </a:lnTo>
                      <a:lnTo>
                        <a:pt x="68" y="827"/>
                      </a:lnTo>
                      <a:lnTo>
                        <a:pt x="59" y="629"/>
                      </a:lnTo>
                      <a:lnTo>
                        <a:pt x="59" y="580"/>
                      </a:lnTo>
                      <a:lnTo>
                        <a:pt x="110" y="568"/>
                      </a:lnTo>
                      <a:lnTo>
                        <a:pt x="153" y="617"/>
                      </a:lnTo>
                      <a:lnTo>
                        <a:pt x="230" y="642"/>
                      </a:lnTo>
                      <a:lnTo>
                        <a:pt x="230" y="555"/>
                      </a:lnTo>
                      <a:lnTo>
                        <a:pt x="196" y="506"/>
                      </a:lnTo>
                      <a:lnTo>
                        <a:pt x="179" y="469"/>
                      </a:lnTo>
                      <a:lnTo>
                        <a:pt x="204" y="469"/>
                      </a:lnTo>
                      <a:lnTo>
                        <a:pt x="221" y="469"/>
                      </a:lnTo>
                      <a:lnTo>
                        <a:pt x="238" y="469"/>
                      </a:lnTo>
                      <a:lnTo>
                        <a:pt x="255" y="469"/>
                      </a:lnTo>
                      <a:lnTo>
                        <a:pt x="281" y="432"/>
                      </a:lnTo>
                      <a:lnTo>
                        <a:pt x="273" y="395"/>
                      </a:lnTo>
                      <a:lnTo>
                        <a:pt x="247" y="308"/>
                      </a:lnTo>
                      <a:lnTo>
                        <a:pt x="196" y="221"/>
                      </a:lnTo>
                      <a:lnTo>
                        <a:pt x="127" y="172"/>
                      </a:lnTo>
                      <a:lnTo>
                        <a:pt x="102" y="123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0640" cy="375120"/>
                </a:xfrm>
                <a:custGeom>
                  <a:avLst/>
                  <a:gdLst/>
                  <a:ahLst/>
                  <a:rect l="0" t="0" r="r" b="b"/>
                  <a:pathLst>
                    <a:path w="724" h="1042">
                      <a:moveTo>
                        <a:pt x="0" y="0"/>
                      </a:moveTo>
                      <a:lnTo>
                        <a:pt x="68" y="0"/>
                      </a:lnTo>
                      <a:lnTo>
                        <a:pt x="94" y="73"/>
                      </a:lnTo>
                      <a:lnTo>
                        <a:pt x="189" y="183"/>
                      </a:lnTo>
                      <a:lnTo>
                        <a:pt x="232" y="307"/>
                      </a:lnTo>
                      <a:lnTo>
                        <a:pt x="301" y="319"/>
                      </a:lnTo>
                      <a:lnTo>
                        <a:pt x="352" y="343"/>
                      </a:lnTo>
                      <a:lnTo>
                        <a:pt x="397" y="392"/>
                      </a:lnTo>
                      <a:lnTo>
                        <a:pt x="448" y="392"/>
                      </a:lnTo>
                      <a:lnTo>
                        <a:pt x="508" y="466"/>
                      </a:lnTo>
                      <a:lnTo>
                        <a:pt x="560" y="527"/>
                      </a:lnTo>
                      <a:lnTo>
                        <a:pt x="620" y="564"/>
                      </a:lnTo>
                      <a:lnTo>
                        <a:pt x="612" y="600"/>
                      </a:lnTo>
                      <a:lnTo>
                        <a:pt x="577" y="625"/>
                      </a:lnTo>
                      <a:lnTo>
                        <a:pt x="543" y="625"/>
                      </a:lnTo>
                      <a:lnTo>
                        <a:pt x="526" y="662"/>
                      </a:lnTo>
                      <a:lnTo>
                        <a:pt x="595" y="735"/>
                      </a:lnTo>
                      <a:lnTo>
                        <a:pt x="646" y="810"/>
                      </a:lnTo>
                      <a:lnTo>
                        <a:pt x="724" y="883"/>
                      </a:lnTo>
                      <a:lnTo>
                        <a:pt x="672" y="969"/>
                      </a:lnTo>
                      <a:lnTo>
                        <a:pt x="629" y="993"/>
                      </a:lnTo>
                      <a:lnTo>
                        <a:pt x="638" y="1042"/>
                      </a:lnTo>
                      <a:lnTo>
                        <a:pt x="560" y="1042"/>
                      </a:lnTo>
                      <a:lnTo>
                        <a:pt x="534" y="1005"/>
                      </a:lnTo>
                      <a:lnTo>
                        <a:pt x="474" y="908"/>
                      </a:lnTo>
                      <a:lnTo>
                        <a:pt x="431" y="822"/>
                      </a:lnTo>
                      <a:lnTo>
                        <a:pt x="361" y="674"/>
                      </a:lnTo>
                      <a:lnTo>
                        <a:pt x="284" y="564"/>
                      </a:lnTo>
                      <a:lnTo>
                        <a:pt x="198" y="405"/>
                      </a:lnTo>
                      <a:lnTo>
                        <a:pt x="146" y="356"/>
                      </a:lnTo>
                      <a:lnTo>
                        <a:pt x="103" y="319"/>
                      </a:lnTo>
                      <a:lnTo>
                        <a:pt x="86" y="232"/>
                      </a:lnTo>
                      <a:lnTo>
                        <a:pt x="8" y="159"/>
                      </a:lnTo>
                      <a:lnTo>
                        <a:pt x="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8280" cy="4389840"/>
                <a:chOff x="3673440" y="979560"/>
                <a:chExt cx="3788280" cy="438984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3160" cy="2854800"/>
                </a:xfrm>
                <a:custGeom>
                  <a:avLst/>
                  <a:gdLst/>
                  <a:ahLst/>
                  <a:rect l="0" t="0" r="r" b="b"/>
                  <a:pathLst>
                    <a:path w="5231" h="7930">
                      <a:moveTo>
                        <a:pt x="3910" y="947"/>
                      </a:moveTo>
                      <a:lnTo>
                        <a:pt x="3997" y="1280"/>
                      </a:lnTo>
                      <a:lnTo>
                        <a:pt x="4160" y="1785"/>
                      </a:lnTo>
                      <a:lnTo>
                        <a:pt x="4486" y="2598"/>
                      </a:lnTo>
                      <a:lnTo>
                        <a:pt x="4606" y="2697"/>
                      </a:lnTo>
                      <a:lnTo>
                        <a:pt x="4683" y="2931"/>
                      </a:lnTo>
                      <a:lnTo>
                        <a:pt x="4940" y="2918"/>
                      </a:lnTo>
                      <a:lnTo>
                        <a:pt x="5111" y="2844"/>
                      </a:lnTo>
                      <a:lnTo>
                        <a:pt x="5231" y="2844"/>
                      </a:lnTo>
                      <a:lnTo>
                        <a:pt x="5223" y="3165"/>
                      </a:lnTo>
                      <a:lnTo>
                        <a:pt x="5180" y="3337"/>
                      </a:lnTo>
                      <a:lnTo>
                        <a:pt x="4708" y="4051"/>
                      </a:lnTo>
                      <a:lnTo>
                        <a:pt x="4280" y="4790"/>
                      </a:lnTo>
                      <a:lnTo>
                        <a:pt x="4288" y="5073"/>
                      </a:lnTo>
                      <a:lnTo>
                        <a:pt x="4408" y="5282"/>
                      </a:lnTo>
                      <a:lnTo>
                        <a:pt x="4348" y="5442"/>
                      </a:lnTo>
                      <a:lnTo>
                        <a:pt x="4383" y="5652"/>
                      </a:lnTo>
                      <a:lnTo>
                        <a:pt x="4348" y="5812"/>
                      </a:lnTo>
                      <a:lnTo>
                        <a:pt x="4245" y="5948"/>
                      </a:lnTo>
                      <a:lnTo>
                        <a:pt x="4160" y="5948"/>
                      </a:lnTo>
                      <a:lnTo>
                        <a:pt x="4014" y="6182"/>
                      </a:lnTo>
                      <a:lnTo>
                        <a:pt x="3884" y="6453"/>
                      </a:lnTo>
                      <a:lnTo>
                        <a:pt x="3910" y="6748"/>
                      </a:lnTo>
                      <a:lnTo>
                        <a:pt x="3781" y="6884"/>
                      </a:lnTo>
                      <a:lnTo>
                        <a:pt x="3661" y="7191"/>
                      </a:lnTo>
                      <a:lnTo>
                        <a:pt x="3524" y="7475"/>
                      </a:lnTo>
                      <a:lnTo>
                        <a:pt x="3447" y="7585"/>
                      </a:lnTo>
                      <a:lnTo>
                        <a:pt x="3379" y="7610"/>
                      </a:lnTo>
                      <a:lnTo>
                        <a:pt x="3258" y="7795"/>
                      </a:lnTo>
                      <a:lnTo>
                        <a:pt x="3061" y="7906"/>
                      </a:lnTo>
                      <a:lnTo>
                        <a:pt x="2813" y="7930"/>
                      </a:lnTo>
                      <a:lnTo>
                        <a:pt x="2675" y="7807"/>
                      </a:lnTo>
                      <a:lnTo>
                        <a:pt x="2658" y="7684"/>
                      </a:lnTo>
                      <a:lnTo>
                        <a:pt x="2633" y="7524"/>
                      </a:lnTo>
                      <a:lnTo>
                        <a:pt x="2538" y="7438"/>
                      </a:lnTo>
                      <a:lnTo>
                        <a:pt x="2461" y="7130"/>
                      </a:lnTo>
                      <a:lnTo>
                        <a:pt x="2435" y="6982"/>
                      </a:lnTo>
                      <a:lnTo>
                        <a:pt x="2427" y="6798"/>
                      </a:lnTo>
                      <a:lnTo>
                        <a:pt x="2384" y="6662"/>
                      </a:lnTo>
                      <a:lnTo>
                        <a:pt x="2375" y="6576"/>
                      </a:lnTo>
                      <a:lnTo>
                        <a:pt x="2298" y="6440"/>
                      </a:lnTo>
                      <a:lnTo>
                        <a:pt x="2213" y="6330"/>
                      </a:lnTo>
                      <a:lnTo>
                        <a:pt x="2152" y="6145"/>
                      </a:lnTo>
                      <a:lnTo>
                        <a:pt x="2110" y="6010"/>
                      </a:lnTo>
                      <a:lnTo>
                        <a:pt x="2127" y="5787"/>
                      </a:lnTo>
                      <a:lnTo>
                        <a:pt x="2255" y="5467"/>
                      </a:lnTo>
                      <a:lnTo>
                        <a:pt x="2281" y="5110"/>
                      </a:lnTo>
                      <a:lnTo>
                        <a:pt x="2187" y="4704"/>
                      </a:lnTo>
                      <a:lnTo>
                        <a:pt x="2050" y="4543"/>
                      </a:lnTo>
                      <a:lnTo>
                        <a:pt x="1955" y="4322"/>
                      </a:lnTo>
                      <a:lnTo>
                        <a:pt x="1990" y="3977"/>
                      </a:lnTo>
                      <a:lnTo>
                        <a:pt x="1921" y="3719"/>
                      </a:lnTo>
                      <a:lnTo>
                        <a:pt x="1758" y="3694"/>
                      </a:lnTo>
                      <a:lnTo>
                        <a:pt x="1587" y="3497"/>
                      </a:lnTo>
                      <a:lnTo>
                        <a:pt x="1372" y="3386"/>
                      </a:lnTo>
                      <a:lnTo>
                        <a:pt x="1148" y="3559"/>
                      </a:lnTo>
                      <a:lnTo>
                        <a:pt x="565" y="3509"/>
                      </a:lnTo>
                      <a:lnTo>
                        <a:pt x="248" y="3078"/>
                      </a:lnTo>
                      <a:lnTo>
                        <a:pt x="0" y="2500"/>
                      </a:lnTo>
                      <a:lnTo>
                        <a:pt x="42" y="2303"/>
                      </a:lnTo>
                      <a:lnTo>
                        <a:pt x="154" y="2155"/>
                      </a:lnTo>
                      <a:lnTo>
                        <a:pt x="205" y="1748"/>
                      </a:lnTo>
                      <a:lnTo>
                        <a:pt x="282" y="1452"/>
                      </a:lnTo>
                      <a:lnTo>
                        <a:pt x="505" y="1144"/>
                      </a:lnTo>
                      <a:lnTo>
                        <a:pt x="737" y="1009"/>
                      </a:lnTo>
                      <a:lnTo>
                        <a:pt x="951" y="689"/>
                      </a:lnTo>
                      <a:lnTo>
                        <a:pt x="1003" y="554"/>
                      </a:lnTo>
                      <a:lnTo>
                        <a:pt x="1286" y="209"/>
                      </a:lnTo>
                      <a:lnTo>
                        <a:pt x="1467" y="344"/>
                      </a:lnTo>
                      <a:lnTo>
                        <a:pt x="1595" y="332"/>
                      </a:lnTo>
                      <a:lnTo>
                        <a:pt x="1750" y="147"/>
                      </a:lnTo>
                      <a:lnTo>
                        <a:pt x="1930" y="123"/>
                      </a:lnTo>
                      <a:lnTo>
                        <a:pt x="2050" y="172"/>
                      </a:lnTo>
                      <a:lnTo>
                        <a:pt x="2161" y="24"/>
                      </a:lnTo>
                      <a:lnTo>
                        <a:pt x="2307" y="0"/>
                      </a:lnTo>
                      <a:lnTo>
                        <a:pt x="2341" y="270"/>
                      </a:lnTo>
                      <a:lnTo>
                        <a:pt x="2435" y="467"/>
                      </a:lnTo>
                      <a:lnTo>
                        <a:pt x="2701" y="664"/>
                      </a:lnTo>
                      <a:lnTo>
                        <a:pt x="2924" y="701"/>
                      </a:lnTo>
                      <a:lnTo>
                        <a:pt x="2950" y="480"/>
                      </a:lnTo>
                      <a:lnTo>
                        <a:pt x="3121" y="480"/>
                      </a:lnTo>
                      <a:lnTo>
                        <a:pt x="3327" y="615"/>
                      </a:lnTo>
                      <a:lnTo>
                        <a:pt x="3550" y="689"/>
                      </a:lnTo>
                      <a:lnTo>
                        <a:pt x="3739" y="603"/>
                      </a:lnTo>
                      <a:lnTo>
                        <a:pt x="3910" y="947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3760" cy="982800"/>
                  <a:chOff x="3801960" y="979560"/>
                  <a:chExt cx="833760" cy="98280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0640" cy="368640"/>
                    <a:chOff x="4132440" y="1593720"/>
                    <a:chExt cx="260640" cy="3686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2760" cy="208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41" h="579">
                          <a:moveTo>
                            <a:pt x="78" y="176"/>
                          </a:moveTo>
                          <a:lnTo>
                            <a:pt x="105" y="113"/>
                          </a:lnTo>
                          <a:lnTo>
                            <a:pt x="166" y="113"/>
                          </a:lnTo>
                          <a:lnTo>
                            <a:pt x="253" y="0"/>
                          </a:lnTo>
                          <a:lnTo>
                            <a:pt x="280" y="75"/>
                          </a:lnTo>
                          <a:lnTo>
                            <a:pt x="324" y="75"/>
                          </a:lnTo>
                          <a:lnTo>
                            <a:pt x="341" y="113"/>
                          </a:lnTo>
                          <a:lnTo>
                            <a:pt x="315" y="176"/>
                          </a:lnTo>
                          <a:lnTo>
                            <a:pt x="280" y="201"/>
                          </a:lnTo>
                          <a:lnTo>
                            <a:pt x="280" y="252"/>
                          </a:lnTo>
                          <a:lnTo>
                            <a:pt x="271" y="277"/>
                          </a:lnTo>
                          <a:lnTo>
                            <a:pt x="263" y="314"/>
                          </a:lnTo>
                          <a:lnTo>
                            <a:pt x="280" y="365"/>
                          </a:lnTo>
                          <a:lnTo>
                            <a:pt x="253" y="415"/>
                          </a:lnTo>
                          <a:lnTo>
                            <a:pt x="227" y="441"/>
                          </a:lnTo>
                          <a:lnTo>
                            <a:pt x="201" y="441"/>
                          </a:lnTo>
                          <a:lnTo>
                            <a:pt x="192" y="454"/>
                          </a:lnTo>
                          <a:lnTo>
                            <a:pt x="183" y="491"/>
                          </a:lnTo>
                          <a:lnTo>
                            <a:pt x="140" y="504"/>
                          </a:lnTo>
                          <a:lnTo>
                            <a:pt x="131" y="491"/>
                          </a:lnTo>
                          <a:lnTo>
                            <a:pt x="96" y="529"/>
                          </a:lnTo>
                          <a:lnTo>
                            <a:pt x="88" y="541"/>
                          </a:lnTo>
                          <a:lnTo>
                            <a:pt x="43" y="579"/>
                          </a:lnTo>
                          <a:lnTo>
                            <a:pt x="26" y="579"/>
                          </a:lnTo>
                          <a:lnTo>
                            <a:pt x="17" y="554"/>
                          </a:lnTo>
                          <a:lnTo>
                            <a:pt x="8" y="491"/>
                          </a:lnTo>
                          <a:lnTo>
                            <a:pt x="0" y="479"/>
                          </a:lnTo>
                          <a:lnTo>
                            <a:pt x="0" y="427"/>
                          </a:lnTo>
                          <a:lnTo>
                            <a:pt x="26" y="402"/>
                          </a:lnTo>
                          <a:lnTo>
                            <a:pt x="52" y="377"/>
                          </a:lnTo>
                          <a:lnTo>
                            <a:pt x="69" y="327"/>
                          </a:lnTo>
                          <a:lnTo>
                            <a:pt x="96" y="327"/>
                          </a:lnTo>
                          <a:lnTo>
                            <a:pt x="114" y="340"/>
                          </a:lnTo>
                          <a:lnTo>
                            <a:pt x="140" y="327"/>
                          </a:lnTo>
                          <a:lnTo>
                            <a:pt x="114" y="314"/>
                          </a:lnTo>
                          <a:lnTo>
                            <a:pt x="78" y="176"/>
                          </a:lnTo>
                          <a:close/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7960" cy="368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11" h="1024">
                          <a:moveTo>
                            <a:pt x="130" y="147"/>
                          </a:moveTo>
                          <a:lnTo>
                            <a:pt x="157" y="110"/>
                          </a:lnTo>
                          <a:lnTo>
                            <a:pt x="236" y="123"/>
                          </a:lnTo>
                          <a:lnTo>
                            <a:pt x="254" y="98"/>
                          </a:lnTo>
                          <a:lnTo>
                            <a:pt x="271" y="61"/>
                          </a:lnTo>
                          <a:lnTo>
                            <a:pt x="288" y="61"/>
                          </a:lnTo>
                          <a:lnTo>
                            <a:pt x="306" y="49"/>
                          </a:lnTo>
                          <a:lnTo>
                            <a:pt x="332" y="24"/>
                          </a:lnTo>
                          <a:lnTo>
                            <a:pt x="367" y="0"/>
                          </a:lnTo>
                          <a:lnTo>
                            <a:pt x="411" y="12"/>
                          </a:lnTo>
                          <a:lnTo>
                            <a:pt x="402" y="61"/>
                          </a:lnTo>
                          <a:lnTo>
                            <a:pt x="384" y="98"/>
                          </a:lnTo>
                          <a:lnTo>
                            <a:pt x="367" y="110"/>
                          </a:lnTo>
                          <a:lnTo>
                            <a:pt x="350" y="123"/>
                          </a:lnTo>
                          <a:lnTo>
                            <a:pt x="297" y="147"/>
                          </a:lnTo>
                          <a:lnTo>
                            <a:pt x="297" y="197"/>
                          </a:lnTo>
                          <a:lnTo>
                            <a:pt x="306" y="221"/>
                          </a:lnTo>
                          <a:lnTo>
                            <a:pt x="358" y="197"/>
                          </a:lnTo>
                          <a:lnTo>
                            <a:pt x="402" y="172"/>
                          </a:lnTo>
                          <a:lnTo>
                            <a:pt x="411" y="197"/>
                          </a:lnTo>
                          <a:lnTo>
                            <a:pt x="411" y="271"/>
                          </a:lnTo>
                          <a:lnTo>
                            <a:pt x="376" y="283"/>
                          </a:lnTo>
                          <a:lnTo>
                            <a:pt x="341" y="283"/>
                          </a:lnTo>
                          <a:lnTo>
                            <a:pt x="315" y="320"/>
                          </a:lnTo>
                          <a:lnTo>
                            <a:pt x="306" y="345"/>
                          </a:lnTo>
                          <a:lnTo>
                            <a:pt x="306" y="382"/>
                          </a:lnTo>
                          <a:lnTo>
                            <a:pt x="332" y="431"/>
                          </a:lnTo>
                          <a:lnTo>
                            <a:pt x="358" y="468"/>
                          </a:lnTo>
                          <a:lnTo>
                            <a:pt x="376" y="505"/>
                          </a:lnTo>
                          <a:lnTo>
                            <a:pt x="384" y="555"/>
                          </a:lnTo>
                          <a:lnTo>
                            <a:pt x="393" y="604"/>
                          </a:lnTo>
                          <a:lnTo>
                            <a:pt x="411" y="666"/>
                          </a:lnTo>
                          <a:lnTo>
                            <a:pt x="411" y="752"/>
                          </a:lnTo>
                          <a:lnTo>
                            <a:pt x="393" y="802"/>
                          </a:lnTo>
                          <a:lnTo>
                            <a:pt x="358" y="839"/>
                          </a:lnTo>
                          <a:lnTo>
                            <a:pt x="350" y="863"/>
                          </a:lnTo>
                          <a:lnTo>
                            <a:pt x="367" y="913"/>
                          </a:lnTo>
                          <a:lnTo>
                            <a:pt x="384" y="962"/>
                          </a:lnTo>
                          <a:lnTo>
                            <a:pt x="332" y="962"/>
                          </a:lnTo>
                          <a:lnTo>
                            <a:pt x="288" y="962"/>
                          </a:lnTo>
                          <a:lnTo>
                            <a:pt x="271" y="950"/>
                          </a:lnTo>
                          <a:lnTo>
                            <a:pt x="236" y="950"/>
                          </a:lnTo>
                          <a:lnTo>
                            <a:pt x="191" y="962"/>
                          </a:lnTo>
                          <a:lnTo>
                            <a:pt x="157" y="987"/>
                          </a:lnTo>
                          <a:lnTo>
                            <a:pt x="130" y="987"/>
                          </a:lnTo>
                          <a:lnTo>
                            <a:pt x="113" y="999"/>
                          </a:lnTo>
                          <a:lnTo>
                            <a:pt x="69" y="1024"/>
                          </a:lnTo>
                          <a:lnTo>
                            <a:pt x="61" y="1011"/>
                          </a:lnTo>
                          <a:lnTo>
                            <a:pt x="43" y="987"/>
                          </a:lnTo>
                          <a:lnTo>
                            <a:pt x="17" y="974"/>
                          </a:lnTo>
                          <a:lnTo>
                            <a:pt x="0" y="962"/>
                          </a:lnTo>
                          <a:lnTo>
                            <a:pt x="0" y="913"/>
                          </a:lnTo>
                          <a:lnTo>
                            <a:pt x="17" y="851"/>
                          </a:lnTo>
                          <a:lnTo>
                            <a:pt x="43" y="851"/>
                          </a:lnTo>
                          <a:lnTo>
                            <a:pt x="69" y="839"/>
                          </a:lnTo>
                          <a:lnTo>
                            <a:pt x="104" y="839"/>
                          </a:lnTo>
                          <a:lnTo>
                            <a:pt x="104" y="826"/>
                          </a:lnTo>
                          <a:lnTo>
                            <a:pt x="69" y="802"/>
                          </a:lnTo>
                          <a:lnTo>
                            <a:pt x="69" y="765"/>
                          </a:lnTo>
                          <a:lnTo>
                            <a:pt x="69" y="740"/>
                          </a:lnTo>
                          <a:lnTo>
                            <a:pt x="104" y="715"/>
                          </a:lnTo>
                          <a:lnTo>
                            <a:pt x="122" y="703"/>
                          </a:lnTo>
                          <a:lnTo>
                            <a:pt x="139" y="691"/>
                          </a:lnTo>
                          <a:lnTo>
                            <a:pt x="165" y="691"/>
                          </a:lnTo>
                          <a:lnTo>
                            <a:pt x="183" y="678"/>
                          </a:lnTo>
                          <a:lnTo>
                            <a:pt x="191" y="580"/>
                          </a:lnTo>
                          <a:lnTo>
                            <a:pt x="219" y="505"/>
                          </a:lnTo>
                          <a:lnTo>
                            <a:pt x="219" y="468"/>
                          </a:lnTo>
                          <a:lnTo>
                            <a:pt x="157" y="456"/>
                          </a:lnTo>
                          <a:lnTo>
                            <a:pt x="174" y="394"/>
                          </a:lnTo>
                          <a:lnTo>
                            <a:pt x="130" y="357"/>
                          </a:lnTo>
                          <a:lnTo>
                            <a:pt x="87" y="369"/>
                          </a:lnTo>
                          <a:lnTo>
                            <a:pt x="139" y="283"/>
                          </a:lnTo>
                          <a:lnTo>
                            <a:pt x="130" y="147"/>
                          </a:lnTo>
                          <a:close/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3760" cy="617760"/>
                  </a:xfrm>
                  <a:custGeom>
                    <a:avLst/>
                    <a:gdLst/>
                    <a:ahLst/>
                    <a:rect l="0" t="0" r="r" b="b"/>
                    <a:pathLst>
                      <a:path w="2316" h="1716">
                        <a:moveTo>
                          <a:pt x="0" y="1716"/>
                        </a:moveTo>
                        <a:lnTo>
                          <a:pt x="145" y="1679"/>
                        </a:lnTo>
                        <a:lnTo>
                          <a:pt x="197" y="1605"/>
                        </a:lnTo>
                        <a:lnTo>
                          <a:pt x="231" y="1555"/>
                        </a:lnTo>
                        <a:lnTo>
                          <a:pt x="248" y="1518"/>
                        </a:lnTo>
                        <a:lnTo>
                          <a:pt x="282" y="1518"/>
                        </a:lnTo>
                        <a:lnTo>
                          <a:pt x="317" y="1481"/>
                        </a:lnTo>
                        <a:lnTo>
                          <a:pt x="360" y="1481"/>
                        </a:lnTo>
                        <a:lnTo>
                          <a:pt x="385" y="1481"/>
                        </a:lnTo>
                        <a:lnTo>
                          <a:pt x="420" y="1481"/>
                        </a:lnTo>
                        <a:lnTo>
                          <a:pt x="437" y="1481"/>
                        </a:lnTo>
                        <a:lnTo>
                          <a:pt x="471" y="1432"/>
                        </a:lnTo>
                        <a:lnTo>
                          <a:pt x="488" y="1395"/>
                        </a:lnTo>
                        <a:lnTo>
                          <a:pt x="531" y="1358"/>
                        </a:lnTo>
                        <a:lnTo>
                          <a:pt x="565" y="1346"/>
                        </a:lnTo>
                        <a:lnTo>
                          <a:pt x="591" y="1321"/>
                        </a:lnTo>
                        <a:lnTo>
                          <a:pt x="625" y="1309"/>
                        </a:lnTo>
                        <a:lnTo>
                          <a:pt x="651" y="1284"/>
                        </a:lnTo>
                        <a:lnTo>
                          <a:pt x="685" y="1259"/>
                        </a:lnTo>
                        <a:lnTo>
                          <a:pt x="720" y="1235"/>
                        </a:lnTo>
                        <a:lnTo>
                          <a:pt x="763" y="1198"/>
                        </a:lnTo>
                        <a:lnTo>
                          <a:pt x="805" y="1210"/>
                        </a:lnTo>
                        <a:lnTo>
                          <a:pt x="874" y="1235"/>
                        </a:lnTo>
                        <a:lnTo>
                          <a:pt x="943" y="1235"/>
                        </a:lnTo>
                        <a:lnTo>
                          <a:pt x="1020" y="1198"/>
                        </a:lnTo>
                        <a:lnTo>
                          <a:pt x="1054" y="1185"/>
                        </a:lnTo>
                        <a:lnTo>
                          <a:pt x="1080" y="1111"/>
                        </a:lnTo>
                        <a:lnTo>
                          <a:pt x="1114" y="1062"/>
                        </a:lnTo>
                        <a:lnTo>
                          <a:pt x="1175" y="1000"/>
                        </a:lnTo>
                        <a:lnTo>
                          <a:pt x="1192" y="963"/>
                        </a:lnTo>
                        <a:lnTo>
                          <a:pt x="1192" y="914"/>
                        </a:lnTo>
                        <a:lnTo>
                          <a:pt x="1244" y="877"/>
                        </a:lnTo>
                        <a:lnTo>
                          <a:pt x="1270" y="839"/>
                        </a:lnTo>
                        <a:lnTo>
                          <a:pt x="1287" y="802"/>
                        </a:lnTo>
                        <a:lnTo>
                          <a:pt x="1304" y="802"/>
                        </a:lnTo>
                        <a:lnTo>
                          <a:pt x="1390" y="728"/>
                        </a:lnTo>
                        <a:lnTo>
                          <a:pt x="1390" y="802"/>
                        </a:lnTo>
                        <a:lnTo>
                          <a:pt x="1372" y="826"/>
                        </a:lnTo>
                        <a:lnTo>
                          <a:pt x="1390" y="864"/>
                        </a:lnTo>
                        <a:lnTo>
                          <a:pt x="1450" y="877"/>
                        </a:lnTo>
                        <a:lnTo>
                          <a:pt x="1484" y="877"/>
                        </a:lnTo>
                        <a:lnTo>
                          <a:pt x="1518" y="839"/>
                        </a:lnTo>
                        <a:lnTo>
                          <a:pt x="1544" y="802"/>
                        </a:lnTo>
                        <a:lnTo>
                          <a:pt x="1544" y="765"/>
                        </a:lnTo>
                        <a:lnTo>
                          <a:pt x="1570" y="728"/>
                        </a:lnTo>
                        <a:lnTo>
                          <a:pt x="1570" y="691"/>
                        </a:lnTo>
                        <a:lnTo>
                          <a:pt x="1595" y="641"/>
                        </a:lnTo>
                        <a:lnTo>
                          <a:pt x="1612" y="617"/>
                        </a:lnTo>
                        <a:lnTo>
                          <a:pt x="1655" y="617"/>
                        </a:lnTo>
                        <a:lnTo>
                          <a:pt x="1741" y="617"/>
                        </a:lnTo>
                        <a:lnTo>
                          <a:pt x="1810" y="567"/>
                        </a:lnTo>
                        <a:lnTo>
                          <a:pt x="1870" y="493"/>
                        </a:lnTo>
                        <a:lnTo>
                          <a:pt x="1938" y="468"/>
                        </a:lnTo>
                        <a:lnTo>
                          <a:pt x="1998" y="407"/>
                        </a:lnTo>
                        <a:lnTo>
                          <a:pt x="2041" y="308"/>
                        </a:lnTo>
                        <a:lnTo>
                          <a:pt x="2136" y="197"/>
                        </a:lnTo>
                        <a:lnTo>
                          <a:pt x="2196" y="148"/>
                        </a:lnTo>
                        <a:lnTo>
                          <a:pt x="2256" y="98"/>
                        </a:lnTo>
                        <a:lnTo>
                          <a:pt x="2316" y="37"/>
                        </a:lnTo>
                        <a:lnTo>
                          <a:pt x="2213" y="0"/>
                        </a:lnTo>
                        <a:lnTo>
                          <a:pt x="2110" y="0"/>
                        </a:lnTo>
                        <a:lnTo>
                          <a:pt x="2007" y="61"/>
                        </a:lnTo>
                        <a:lnTo>
                          <a:pt x="1955" y="98"/>
                        </a:lnTo>
                        <a:lnTo>
                          <a:pt x="1870" y="123"/>
                        </a:lnTo>
                        <a:lnTo>
                          <a:pt x="1775" y="135"/>
                        </a:lnTo>
                        <a:lnTo>
                          <a:pt x="1724" y="160"/>
                        </a:lnTo>
                        <a:lnTo>
                          <a:pt x="1612" y="222"/>
                        </a:lnTo>
                        <a:lnTo>
                          <a:pt x="1544" y="259"/>
                        </a:lnTo>
                        <a:lnTo>
                          <a:pt x="1475" y="296"/>
                        </a:lnTo>
                        <a:lnTo>
                          <a:pt x="1390" y="320"/>
                        </a:lnTo>
                        <a:lnTo>
                          <a:pt x="1304" y="357"/>
                        </a:lnTo>
                        <a:lnTo>
                          <a:pt x="1227" y="407"/>
                        </a:lnTo>
                        <a:lnTo>
                          <a:pt x="1167" y="468"/>
                        </a:lnTo>
                        <a:lnTo>
                          <a:pt x="1114" y="530"/>
                        </a:lnTo>
                        <a:lnTo>
                          <a:pt x="1063" y="580"/>
                        </a:lnTo>
                        <a:lnTo>
                          <a:pt x="1020" y="617"/>
                        </a:lnTo>
                        <a:lnTo>
                          <a:pt x="926" y="691"/>
                        </a:lnTo>
                        <a:lnTo>
                          <a:pt x="831" y="765"/>
                        </a:lnTo>
                        <a:lnTo>
                          <a:pt x="720" y="839"/>
                        </a:lnTo>
                        <a:lnTo>
                          <a:pt x="643" y="951"/>
                        </a:lnTo>
                        <a:lnTo>
                          <a:pt x="557" y="1037"/>
                        </a:lnTo>
                        <a:lnTo>
                          <a:pt x="480" y="1086"/>
                        </a:lnTo>
                        <a:lnTo>
                          <a:pt x="402" y="1198"/>
                        </a:lnTo>
                        <a:lnTo>
                          <a:pt x="351" y="1272"/>
                        </a:lnTo>
                        <a:lnTo>
                          <a:pt x="282" y="1346"/>
                        </a:lnTo>
                        <a:lnTo>
                          <a:pt x="214" y="1395"/>
                        </a:lnTo>
                        <a:lnTo>
                          <a:pt x="145" y="1444"/>
                        </a:lnTo>
                        <a:lnTo>
                          <a:pt x="0" y="1716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49480" cy="598680"/>
                </a:xfrm>
                <a:custGeom>
                  <a:avLst/>
                  <a:gdLst/>
                  <a:ahLst/>
                  <a:rect l="0" t="0" r="r" b="b"/>
                  <a:pathLst>
                    <a:path w="693" h="1663">
                      <a:moveTo>
                        <a:pt x="129" y="517"/>
                      </a:moveTo>
                      <a:lnTo>
                        <a:pt x="112" y="850"/>
                      </a:lnTo>
                      <a:lnTo>
                        <a:pt x="51" y="1060"/>
                      </a:lnTo>
                      <a:lnTo>
                        <a:pt x="0" y="1257"/>
                      </a:lnTo>
                      <a:lnTo>
                        <a:pt x="0" y="1404"/>
                      </a:lnTo>
                      <a:lnTo>
                        <a:pt x="17" y="1528"/>
                      </a:lnTo>
                      <a:lnTo>
                        <a:pt x="77" y="1638"/>
                      </a:lnTo>
                      <a:lnTo>
                        <a:pt x="129" y="1651"/>
                      </a:lnTo>
                      <a:lnTo>
                        <a:pt x="173" y="1651"/>
                      </a:lnTo>
                      <a:lnTo>
                        <a:pt x="225" y="1663"/>
                      </a:lnTo>
                      <a:lnTo>
                        <a:pt x="250" y="1577"/>
                      </a:lnTo>
                      <a:lnTo>
                        <a:pt x="276" y="1355"/>
                      </a:lnTo>
                      <a:lnTo>
                        <a:pt x="355" y="1207"/>
                      </a:lnTo>
                      <a:lnTo>
                        <a:pt x="373" y="986"/>
                      </a:lnTo>
                      <a:lnTo>
                        <a:pt x="407" y="899"/>
                      </a:lnTo>
                      <a:lnTo>
                        <a:pt x="442" y="838"/>
                      </a:lnTo>
                      <a:lnTo>
                        <a:pt x="468" y="677"/>
                      </a:lnTo>
                      <a:lnTo>
                        <a:pt x="520" y="578"/>
                      </a:lnTo>
                      <a:lnTo>
                        <a:pt x="554" y="504"/>
                      </a:lnTo>
                      <a:lnTo>
                        <a:pt x="589" y="443"/>
                      </a:lnTo>
                      <a:lnTo>
                        <a:pt x="589" y="406"/>
                      </a:lnTo>
                      <a:lnTo>
                        <a:pt x="667" y="320"/>
                      </a:lnTo>
                      <a:lnTo>
                        <a:pt x="676" y="184"/>
                      </a:lnTo>
                      <a:lnTo>
                        <a:pt x="693" y="98"/>
                      </a:lnTo>
                      <a:lnTo>
                        <a:pt x="624" y="61"/>
                      </a:lnTo>
                      <a:lnTo>
                        <a:pt x="580" y="0"/>
                      </a:lnTo>
                      <a:lnTo>
                        <a:pt x="520" y="61"/>
                      </a:lnTo>
                      <a:lnTo>
                        <a:pt x="468" y="209"/>
                      </a:lnTo>
                      <a:lnTo>
                        <a:pt x="407" y="307"/>
                      </a:lnTo>
                      <a:lnTo>
                        <a:pt x="355" y="394"/>
                      </a:lnTo>
                      <a:lnTo>
                        <a:pt x="328" y="394"/>
                      </a:lnTo>
                      <a:lnTo>
                        <a:pt x="276" y="443"/>
                      </a:lnTo>
                      <a:lnTo>
                        <a:pt x="250" y="492"/>
                      </a:lnTo>
                      <a:lnTo>
                        <a:pt x="129" y="517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3920" cy="2838960"/>
                </a:xfrm>
                <a:custGeom>
                  <a:avLst/>
                  <a:gdLst/>
                  <a:ahLst/>
                  <a:rect l="0" t="0" r="r" b="b"/>
                  <a:pathLst>
                    <a:path w="9372" h="7886">
                      <a:moveTo>
                        <a:pt x="0" y="3543"/>
                      </a:moveTo>
                      <a:lnTo>
                        <a:pt x="85" y="3432"/>
                      </a:lnTo>
                      <a:lnTo>
                        <a:pt x="137" y="3346"/>
                      </a:lnTo>
                      <a:lnTo>
                        <a:pt x="248" y="3346"/>
                      </a:lnTo>
                      <a:lnTo>
                        <a:pt x="368" y="3371"/>
                      </a:lnTo>
                      <a:lnTo>
                        <a:pt x="454" y="3322"/>
                      </a:lnTo>
                      <a:lnTo>
                        <a:pt x="548" y="3309"/>
                      </a:lnTo>
                      <a:lnTo>
                        <a:pt x="557" y="3162"/>
                      </a:lnTo>
                      <a:lnTo>
                        <a:pt x="608" y="3063"/>
                      </a:lnTo>
                      <a:lnTo>
                        <a:pt x="480" y="2953"/>
                      </a:lnTo>
                      <a:lnTo>
                        <a:pt x="462" y="2867"/>
                      </a:lnTo>
                      <a:lnTo>
                        <a:pt x="471" y="2743"/>
                      </a:lnTo>
                      <a:lnTo>
                        <a:pt x="565" y="2743"/>
                      </a:lnTo>
                      <a:lnTo>
                        <a:pt x="625" y="2731"/>
                      </a:lnTo>
                      <a:lnTo>
                        <a:pt x="634" y="2743"/>
                      </a:lnTo>
                      <a:lnTo>
                        <a:pt x="703" y="2670"/>
                      </a:lnTo>
                      <a:lnTo>
                        <a:pt x="771" y="2633"/>
                      </a:lnTo>
                      <a:lnTo>
                        <a:pt x="797" y="2633"/>
                      </a:lnTo>
                      <a:lnTo>
                        <a:pt x="840" y="2559"/>
                      </a:lnTo>
                      <a:lnTo>
                        <a:pt x="891" y="2534"/>
                      </a:lnTo>
                      <a:lnTo>
                        <a:pt x="943" y="2399"/>
                      </a:lnTo>
                      <a:lnTo>
                        <a:pt x="977" y="2436"/>
                      </a:lnTo>
                      <a:lnTo>
                        <a:pt x="1045" y="2350"/>
                      </a:lnTo>
                      <a:lnTo>
                        <a:pt x="1054" y="2350"/>
                      </a:lnTo>
                      <a:lnTo>
                        <a:pt x="1140" y="2251"/>
                      </a:lnTo>
                      <a:lnTo>
                        <a:pt x="1191" y="2239"/>
                      </a:lnTo>
                      <a:lnTo>
                        <a:pt x="1260" y="2239"/>
                      </a:lnTo>
                      <a:lnTo>
                        <a:pt x="1303" y="2239"/>
                      </a:lnTo>
                      <a:lnTo>
                        <a:pt x="1268" y="2116"/>
                      </a:lnTo>
                      <a:lnTo>
                        <a:pt x="1251" y="2018"/>
                      </a:lnTo>
                      <a:lnTo>
                        <a:pt x="1234" y="1808"/>
                      </a:lnTo>
                      <a:lnTo>
                        <a:pt x="1337" y="1795"/>
                      </a:lnTo>
                      <a:lnTo>
                        <a:pt x="1388" y="1758"/>
                      </a:lnTo>
                      <a:lnTo>
                        <a:pt x="1363" y="1845"/>
                      </a:lnTo>
                      <a:lnTo>
                        <a:pt x="1406" y="1906"/>
                      </a:lnTo>
                      <a:lnTo>
                        <a:pt x="1448" y="1981"/>
                      </a:lnTo>
                      <a:lnTo>
                        <a:pt x="1474" y="2030"/>
                      </a:lnTo>
                      <a:lnTo>
                        <a:pt x="1594" y="2018"/>
                      </a:lnTo>
                      <a:lnTo>
                        <a:pt x="1697" y="1832"/>
                      </a:lnTo>
                      <a:lnTo>
                        <a:pt x="1774" y="1746"/>
                      </a:lnTo>
                      <a:lnTo>
                        <a:pt x="1817" y="1685"/>
                      </a:lnTo>
                      <a:lnTo>
                        <a:pt x="1868" y="1611"/>
                      </a:lnTo>
                      <a:lnTo>
                        <a:pt x="1920" y="1512"/>
                      </a:lnTo>
                      <a:lnTo>
                        <a:pt x="1963" y="1549"/>
                      </a:lnTo>
                      <a:lnTo>
                        <a:pt x="1963" y="1488"/>
                      </a:lnTo>
                      <a:lnTo>
                        <a:pt x="1989" y="1451"/>
                      </a:lnTo>
                      <a:lnTo>
                        <a:pt x="2066" y="1476"/>
                      </a:lnTo>
                      <a:lnTo>
                        <a:pt x="2194" y="1635"/>
                      </a:lnTo>
                      <a:lnTo>
                        <a:pt x="2169" y="1193"/>
                      </a:lnTo>
                      <a:lnTo>
                        <a:pt x="2057" y="1389"/>
                      </a:lnTo>
                      <a:lnTo>
                        <a:pt x="1971" y="1377"/>
                      </a:lnTo>
                      <a:lnTo>
                        <a:pt x="1946" y="1254"/>
                      </a:lnTo>
                      <a:lnTo>
                        <a:pt x="1946" y="1193"/>
                      </a:lnTo>
                      <a:lnTo>
                        <a:pt x="1920" y="1156"/>
                      </a:lnTo>
                      <a:lnTo>
                        <a:pt x="1989" y="1057"/>
                      </a:lnTo>
                      <a:lnTo>
                        <a:pt x="2031" y="984"/>
                      </a:lnTo>
                      <a:lnTo>
                        <a:pt x="2074" y="959"/>
                      </a:lnTo>
                      <a:lnTo>
                        <a:pt x="2109" y="947"/>
                      </a:lnTo>
                      <a:lnTo>
                        <a:pt x="2134" y="885"/>
                      </a:lnTo>
                      <a:lnTo>
                        <a:pt x="2169" y="873"/>
                      </a:lnTo>
                      <a:lnTo>
                        <a:pt x="2211" y="873"/>
                      </a:lnTo>
                      <a:lnTo>
                        <a:pt x="2134" y="762"/>
                      </a:lnTo>
                      <a:lnTo>
                        <a:pt x="2057" y="787"/>
                      </a:lnTo>
                      <a:lnTo>
                        <a:pt x="2006" y="787"/>
                      </a:lnTo>
                      <a:lnTo>
                        <a:pt x="1963" y="750"/>
                      </a:lnTo>
                      <a:lnTo>
                        <a:pt x="1963" y="824"/>
                      </a:lnTo>
                      <a:lnTo>
                        <a:pt x="1920" y="897"/>
                      </a:lnTo>
                      <a:lnTo>
                        <a:pt x="1860" y="1020"/>
                      </a:lnTo>
                      <a:lnTo>
                        <a:pt x="1800" y="1070"/>
                      </a:lnTo>
                      <a:lnTo>
                        <a:pt x="1757" y="1070"/>
                      </a:lnTo>
                      <a:lnTo>
                        <a:pt x="1740" y="1156"/>
                      </a:lnTo>
                      <a:lnTo>
                        <a:pt x="1740" y="1193"/>
                      </a:lnTo>
                      <a:lnTo>
                        <a:pt x="1706" y="1230"/>
                      </a:lnTo>
                      <a:lnTo>
                        <a:pt x="1748" y="1377"/>
                      </a:lnTo>
                      <a:lnTo>
                        <a:pt x="1774" y="1451"/>
                      </a:lnTo>
                      <a:lnTo>
                        <a:pt x="1723" y="1562"/>
                      </a:lnTo>
                      <a:lnTo>
                        <a:pt x="1663" y="1635"/>
                      </a:lnTo>
                      <a:lnTo>
                        <a:pt x="1646" y="1746"/>
                      </a:lnTo>
                      <a:lnTo>
                        <a:pt x="1611" y="1832"/>
                      </a:lnTo>
                      <a:lnTo>
                        <a:pt x="1577" y="1832"/>
                      </a:lnTo>
                      <a:lnTo>
                        <a:pt x="1526" y="1845"/>
                      </a:lnTo>
                      <a:lnTo>
                        <a:pt x="1474" y="1881"/>
                      </a:lnTo>
                      <a:lnTo>
                        <a:pt x="1457" y="1869"/>
                      </a:lnTo>
                      <a:lnTo>
                        <a:pt x="1457" y="1808"/>
                      </a:lnTo>
                      <a:lnTo>
                        <a:pt x="1448" y="1709"/>
                      </a:lnTo>
                      <a:lnTo>
                        <a:pt x="1406" y="1709"/>
                      </a:lnTo>
                      <a:lnTo>
                        <a:pt x="1380" y="1648"/>
                      </a:lnTo>
                      <a:lnTo>
                        <a:pt x="1388" y="1562"/>
                      </a:lnTo>
                      <a:lnTo>
                        <a:pt x="1397" y="1512"/>
                      </a:lnTo>
                      <a:lnTo>
                        <a:pt x="1388" y="1488"/>
                      </a:lnTo>
                      <a:lnTo>
                        <a:pt x="1354" y="1512"/>
                      </a:lnTo>
                      <a:lnTo>
                        <a:pt x="1337" y="1512"/>
                      </a:lnTo>
                      <a:lnTo>
                        <a:pt x="1311" y="1500"/>
                      </a:lnTo>
                      <a:lnTo>
                        <a:pt x="1294" y="1488"/>
                      </a:lnTo>
                      <a:lnTo>
                        <a:pt x="1251" y="1537"/>
                      </a:lnTo>
                      <a:lnTo>
                        <a:pt x="1208" y="1599"/>
                      </a:lnTo>
                      <a:lnTo>
                        <a:pt x="1165" y="1660"/>
                      </a:lnTo>
                      <a:lnTo>
                        <a:pt x="1071" y="1648"/>
                      </a:lnTo>
                      <a:lnTo>
                        <a:pt x="1011" y="1635"/>
                      </a:lnTo>
                      <a:lnTo>
                        <a:pt x="968" y="1574"/>
                      </a:lnTo>
                      <a:lnTo>
                        <a:pt x="968" y="1537"/>
                      </a:lnTo>
                      <a:lnTo>
                        <a:pt x="994" y="1488"/>
                      </a:lnTo>
                      <a:lnTo>
                        <a:pt x="1028" y="1451"/>
                      </a:lnTo>
                      <a:lnTo>
                        <a:pt x="1054" y="1402"/>
                      </a:lnTo>
                      <a:lnTo>
                        <a:pt x="994" y="1426"/>
                      </a:lnTo>
                      <a:lnTo>
                        <a:pt x="968" y="1365"/>
                      </a:lnTo>
                      <a:lnTo>
                        <a:pt x="968" y="1328"/>
                      </a:lnTo>
                      <a:lnTo>
                        <a:pt x="1054" y="1316"/>
                      </a:lnTo>
                      <a:lnTo>
                        <a:pt x="1131" y="1303"/>
                      </a:lnTo>
                      <a:lnTo>
                        <a:pt x="1080" y="1266"/>
                      </a:lnTo>
                      <a:lnTo>
                        <a:pt x="1003" y="1279"/>
                      </a:lnTo>
                      <a:lnTo>
                        <a:pt x="1003" y="1205"/>
                      </a:lnTo>
                      <a:lnTo>
                        <a:pt x="1037" y="1156"/>
                      </a:lnTo>
                      <a:lnTo>
                        <a:pt x="1114" y="1107"/>
                      </a:lnTo>
                      <a:lnTo>
                        <a:pt x="1140" y="1057"/>
                      </a:lnTo>
                      <a:lnTo>
                        <a:pt x="1165" y="1033"/>
                      </a:lnTo>
                      <a:lnTo>
                        <a:pt x="1225" y="1020"/>
                      </a:lnTo>
                      <a:lnTo>
                        <a:pt x="1277" y="1033"/>
                      </a:lnTo>
                      <a:lnTo>
                        <a:pt x="1303" y="1057"/>
                      </a:lnTo>
                      <a:lnTo>
                        <a:pt x="1346" y="1020"/>
                      </a:lnTo>
                      <a:lnTo>
                        <a:pt x="1303" y="1008"/>
                      </a:lnTo>
                      <a:lnTo>
                        <a:pt x="1303" y="910"/>
                      </a:lnTo>
                      <a:lnTo>
                        <a:pt x="1414" y="799"/>
                      </a:lnTo>
                      <a:lnTo>
                        <a:pt x="1474" y="725"/>
                      </a:lnTo>
                      <a:lnTo>
                        <a:pt x="1508" y="713"/>
                      </a:lnTo>
                      <a:lnTo>
                        <a:pt x="1500" y="676"/>
                      </a:lnTo>
                      <a:lnTo>
                        <a:pt x="1551" y="602"/>
                      </a:lnTo>
                      <a:lnTo>
                        <a:pt x="1611" y="492"/>
                      </a:lnTo>
                      <a:lnTo>
                        <a:pt x="1680" y="442"/>
                      </a:lnTo>
                      <a:lnTo>
                        <a:pt x="1628" y="393"/>
                      </a:lnTo>
                      <a:lnTo>
                        <a:pt x="1766" y="282"/>
                      </a:lnTo>
                      <a:lnTo>
                        <a:pt x="1826" y="295"/>
                      </a:lnTo>
                      <a:lnTo>
                        <a:pt x="1817" y="233"/>
                      </a:lnTo>
                      <a:lnTo>
                        <a:pt x="1937" y="221"/>
                      </a:lnTo>
                      <a:lnTo>
                        <a:pt x="2160" y="24"/>
                      </a:lnTo>
                      <a:lnTo>
                        <a:pt x="2194" y="0"/>
                      </a:lnTo>
                      <a:lnTo>
                        <a:pt x="2151" y="147"/>
                      </a:lnTo>
                      <a:lnTo>
                        <a:pt x="2203" y="73"/>
                      </a:lnTo>
                      <a:lnTo>
                        <a:pt x="2263" y="49"/>
                      </a:lnTo>
                      <a:lnTo>
                        <a:pt x="2254" y="110"/>
                      </a:lnTo>
                      <a:lnTo>
                        <a:pt x="2427" y="36"/>
                      </a:lnTo>
                      <a:lnTo>
                        <a:pt x="2504" y="98"/>
                      </a:lnTo>
                      <a:lnTo>
                        <a:pt x="2392" y="159"/>
                      </a:lnTo>
                      <a:lnTo>
                        <a:pt x="2435" y="233"/>
                      </a:lnTo>
                      <a:lnTo>
                        <a:pt x="2598" y="221"/>
                      </a:lnTo>
                      <a:lnTo>
                        <a:pt x="2847" y="332"/>
                      </a:lnTo>
                      <a:lnTo>
                        <a:pt x="2830" y="455"/>
                      </a:lnTo>
                      <a:lnTo>
                        <a:pt x="2727" y="565"/>
                      </a:lnTo>
                      <a:lnTo>
                        <a:pt x="2573" y="627"/>
                      </a:lnTo>
                      <a:lnTo>
                        <a:pt x="2547" y="750"/>
                      </a:lnTo>
                      <a:lnTo>
                        <a:pt x="2555" y="873"/>
                      </a:lnTo>
                      <a:lnTo>
                        <a:pt x="2598" y="897"/>
                      </a:lnTo>
                      <a:lnTo>
                        <a:pt x="2607" y="959"/>
                      </a:lnTo>
                      <a:lnTo>
                        <a:pt x="2624" y="984"/>
                      </a:lnTo>
                      <a:lnTo>
                        <a:pt x="2658" y="1008"/>
                      </a:lnTo>
                      <a:lnTo>
                        <a:pt x="2667" y="1082"/>
                      </a:lnTo>
                      <a:lnTo>
                        <a:pt x="2718" y="1168"/>
                      </a:lnTo>
                      <a:lnTo>
                        <a:pt x="2718" y="1205"/>
                      </a:lnTo>
                      <a:lnTo>
                        <a:pt x="2770" y="1205"/>
                      </a:lnTo>
                      <a:lnTo>
                        <a:pt x="2787" y="1230"/>
                      </a:lnTo>
                      <a:lnTo>
                        <a:pt x="2830" y="1254"/>
                      </a:lnTo>
                      <a:lnTo>
                        <a:pt x="2855" y="1217"/>
                      </a:lnTo>
                      <a:lnTo>
                        <a:pt x="2881" y="1156"/>
                      </a:lnTo>
                      <a:lnTo>
                        <a:pt x="2898" y="1119"/>
                      </a:lnTo>
                      <a:lnTo>
                        <a:pt x="2941" y="1143"/>
                      </a:lnTo>
                      <a:lnTo>
                        <a:pt x="2993" y="1057"/>
                      </a:lnTo>
                      <a:lnTo>
                        <a:pt x="2993" y="996"/>
                      </a:lnTo>
                      <a:lnTo>
                        <a:pt x="3010" y="947"/>
                      </a:lnTo>
                      <a:lnTo>
                        <a:pt x="3018" y="910"/>
                      </a:lnTo>
                      <a:lnTo>
                        <a:pt x="3121" y="873"/>
                      </a:lnTo>
                      <a:lnTo>
                        <a:pt x="3207" y="836"/>
                      </a:lnTo>
                      <a:lnTo>
                        <a:pt x="3318" y="787"/>
                      </a:lnTo>
                      <a:lnTo>
                        <a:pt x="3447" y="824"/>
                      </a:lnTo>
                      <a:lnTo>
                        <a:pt x="3576" y="824"/>
                      </a:lnTo>
                      <a:lnTo>
                        <a:pt x="3790" y="824"/>
                      </a:lnTo>
                      <a:lnTo>
                        <a:pt x="3824" y="528"/>
                      </a:lnTo>
                      <a:lnTo>
                        <a:pt x="3944" y="541"/>
                      </a:lnTo>
                      <a:lnTo>
                        <a:pt x="4030" y="762"/>
                      </a:lnTo>
                      <a:lnTo>
                        <a:pt x="4047" y="578"/>
                      </a:lnTo>
                      <a:lnTo>
                        <a:pt x="4441" y="36"/>
                      </a:lnTo>
                      <a:lnTo>
                        <a:pt x="4596" y="36"/>
                      </a:lnTo>
                      <a:lnTo>
                        <a:pt x="4733" y="147"/>
                      </a:lnTo>
                      <a:lnTo>
                        <a:pt x="4913" y="135"/>
                      </a:lnTo>
                      <a:lnTo>
                        <a:pt x="5153" y="332"/>
                      </a:lnTo>
                      <a:lnTo>
                        <a:pt x="5427" y="442"/>
                      </a:lnTo>
                      <a:lnTo>
                        <a:pt x="5625" y="418"/>
                      </a:lnTo>
                      <a:lnTo>
                        <a:pt x="5882" y="541"/>
                      </a:lnTo>
                      <a:lnTo>
                        <a:pt x="6096" y="541"/>
                      </a:lnTo>
                      <a:lnTo>
                        <a:pt x="6199" y="455"/>
                      </a:lnTo>
                      <a:lnTo>
                        <a:pt x="6439" y="455"/>
                      </a:lnTo>
                      <a:lnTo>
                        <a:pt x="6568" y="553"/>
                      </a:lnTo>
                      <a:lnTo>
                        <a:pt x="6893" y="553"/>
                      </a:lnTo>
                      <a:lnTo>
                        <a:pt x="7169" y="713"/>
                      </a:lnTo>
                      <a:lnTo>
                        <a:pt x="7657" y="688"/>
                      </a:lnTo>
                      <a:lnTo>
                        <a:pt x="8455" y="762"/>
                      </a:lnTo>
                      <a:lnTo>
                        <a:pt x="8841" y="996"/>
                      </a:lnTo>
                      <a:lnTo>
                        <a:pt x="9166" y="1143"/>
                      </a:lnTo>
                      <a:lnTo>
                        <a:pt x="9372" y="1266"/>
                      </a:lnTo>
                      <a:lnTo>
                        <a:pt x="9312" y="1303"/>
                      </a:lnTo>
                      <a:lnTo>
                        <a:pt x="9166" y="1205"/>
                      </a:lnTo>
                      <a:lnTo>
                        <a:pt x="8832" y="1168"/>
                      </a:lnTo>
                      <a:lnTo>
                        <a:pt x="8926" y="1266"/>
                      </a:lnTo>
                      <a:lnTo>
                        <a:pt x="9072" y="1316"/>
                      </a:lnTo>
                      <a:lnTo>
                        <a:pt x="9029" y="1476"/>
                      </a:lnTo>
                      <a:lnTo>
                        <a:pt x="8875" y="1574"/>
                      </a:lnTo>
                      <a:lnTo>
                        <a:pt x="8823" y="1734"/>
                      </a:lnTo>
                      <a:lnTo>
                        <a:pt x="9029" y="1881"/>
                      </a:lnTo>
                      <a:lnTo>
                        <a:pt x="9175" y="2079"/>
                      </a:lnTo>
                      <a:lnTo>
                        <a:pt x="9252" y="2362"/>
                      </a:lnTo>
                      <a:lnTo>
                        <a:pt x="9158" y="2387"/>
                      </a:lnTo>
                      <a:lnTo>
                        <a:pt x="8952" y="2301"/>
                      </a:lnTo>
                      <a:lnTo>
                        <a:pt x="8738" y="2092"/>
                      </a:lnTo>
                      <a:lnTo>
                        <a:pt x="8652" y="1981"/>
                      </a:lnTo>
                      <a:lnTo>
                        <a:pt x="8601" y="1832"/>
                      </a:lnTo>
                      <a:lnTo>
                        <a:pt x="8549" y="1611"/>
                      </a:lnTo>
                      <a:lnTo>
                        <a:pt x="8463" y="1537"/>
                      </a:lnTo>
                      <a:lnTo>
                        <a:pt x="8386" y="1525"/>
                      </a:lnTo>
                      <a:lnTo>
                        <a:pt x="8318" y="1549"/>
                      </a:lnTo>
                      <a:lnTo>
                        <a:pt x="8395" y="1722"/>
                      </a:lnTo>
                      <a:lnTo>
                        <a:pt x="8189" y="1746"/>
                      </a:lnTo>
                      <a:lnTo>
                        <a:pt x="8095" y="1660"/>
                      </a:lnTo>
                      <a:lnTo>
                        <a:pt x="7915" y="1709"/>
                      </a:lnTo>
                      <a:lnTo>
                        <a:pt x="7778" y="1845"/>
                      </a:lnTo>
                      <a:lnTo>
                        <a:pt x="7778" y="1918"/>
                      </a:lnTo>
                      <a:lnTo>
                        <a:pt x="7829" y="2042"/>
                      </a:lnTo>
                      <a:lnTo>
                        <a:pt x="8043" y="2079"/>
                      </a:lnTo>
                      <a:lnTo>
                        <a:pt x="8215" y="2227"/>
                      </a:lnTo>
                      <a:lnTo>
                        <a:pt x="8506" y="2633"/>
                      </a:lnTo>
                      <a:lnTo>
                        <a:pt x="8626" y="2903"/>
                      </a:lnTo>
                      <a:lnTo>
                        <a:pt x="8643" y="3186"/>
                      </a:lnTo>
                      <a:lnTo>
                        <a:pt x="8618" y="3420"/>
                      </a:lnTo>
                      <a:lnTo>
                        <a:pt x="8549" y="3420"/>
                      </a:lnTo>
                      <a:lnTo>
                        <a:pt x="8472" y="3334"/>
                      </a:lnTo>
                      <a:lnTo>
                        <a:pt x="8361" y="3445"/>
                      </a:lnTo>
                      <a:lnTo>
                        <a:pt x="8249" y="3543"/>
                      </a:lnTo>
                      <a:lnTo>
                        <a:pt x="8232" y="3703"/>
                      </a:lnTo>
                      <a:lnTo>
                        <a:pt x="8352" y="3900"/>
                      </a:lnTo>
                      <a:lnTo>
                        <a:pt x="8275" y="4060"/>
                      </a:lnTo>
                      <a:lnTo>
                        <a:pt x="8249" y="4330"/>
                      </a:lnTo>
                      <a:lnTo>
                        <a:pt x="8395" y="4502"/>
                      </a:lnTo>
                      <a:lnTo>
                        <a:pt x="8558" y="4552"/>
                      </a:lnTo>
                      <a:lnTo>
                        <a:pt x="8729" y="4736"/>
                      </a:lnTo>
                      <a:lnTo>
                        <a:pt x="8875" y="4982"/>
                      </a:lnTo>
                      <a:lnTo>
                        <a:pt x="8883" y="5351"/>
                      </a:lnTo>
                      <a:lnTo>
                        <a:pt x="8832" y="5523"/>
                      </a:lnTo>
                      <a:lnTo>
                        <a:pt x="8678" y="5671"/>
                      </a:lnTo>
                      <a:lnTo>
                        <a:pt x="8489" y="5745"/>
                      </a:lnTo>
                      <a:lnTo>
                        <a:pt x="8369" y="5856"/>
                      </a:lnTo>
                      <a:lnTo>
                        <a:pt x="8300" y="5794"/>
                      </a:lnTo>
                      <a:lnTo>
                        <a:pt x="8240" y="5856"/>
                      </a:lnTo>
                      <a:lnTo>
                        <a:pt x="8223" y="6127"/>
                      </a:lnTo>
                      <a:lnTo>
                        <a:pt x="8266" y="6287"/>
                      </a:lnTo>
                      <a:lnTo>
                        <a:pt x="8455" y="6472"/>
                      </a:lnTo>
                      <a:lnTo>
                        <a:pt x="8532" y="6656"/>
                      </a:lnTo>
                      <a:lnTo>
                        <a:pt x="8592" y="6754"/>
                      </a:lnTo>
                      <a:lnTo>
                        <a:pt x="8575" y="6951"/>
                      </a:lnTo>
                      <a:lnTo>
                        <a:pt x="8455" y="7111"/>
                      </a:lnTo>
                      <a:lnTo>
                        <a:pt x="8326" y="7111"/>
                      </a:lnTo>
                      <a:lnTo>
                        <a:pt x="8120" y="6877"/>
                      </a:lnTo>
                      <a:lnTo>
                        <a:pt x="7975" y="6791"/>
                      </a:lnTo>
                      <a:lnTo>
                        <a:pt x="7915" y="6742"/>
                      </a:lnTo>
                      <a:lnTo>
                        <a:pt x="7855" y="6865"/>
                      </a:lnTo>
                      <a:lnTo>
                        <a:pt x="7872" y="7037"/>
                      </a:lnTo>
                      <a:lnTo>
                        <a:pt x="7923" y="7173"/>
                      </a:lnTo>
                      <a:lnTo>
                        <a:pt x="7958" y="7382"/>
                      </a:lnTo>
                      <a:lnTo>
                        <a:pt x="8086" y="7456"/>
                      </a:lnTo>
                      <a:lnTo>
                        <a:pt x="8043" y="7566"/>
                      </a:lnTo>
                      <a:lnTo>
                        <a:pt x="8052" y="7726"/>
                      </a:lnTo>
                      <a:lnTo>
                        <a:pt x="8095" y="7886"/>
                      </a:lnTo>
                      <a:lnTo>
                        <a:pt x="8009" y="7874"/>
                      </a:lnTo>
                      <a:lnTo>
                        <a:pt x="7915" y="7689"/>
                      </a:lnTo>
                      <a:lnTo>
                        <a:pt x="7923" y="7492"/>
                      </a:lnTo>
                      <a:lnTo>
                        <a:pt x="7889" y="7431"/>
                      </a:lnTo>
                      <a:lnTo>
                        <a:pt x="7855" y="7210"/>
                      </a:lnTo>
                      <a:lnTo>
                        <a:pt x="7812" y="7148"/>
                      </a:lnTo>
                      <a:lnTo>
                        <a:pt x="7795" y="6841"/>
                      </a:lnTo>
                      <a:lnTo>
                        <a:pt x="7735" y="6656"/>
                      </a:lnTo>
                      <a:lnTo>
                        <a:pt x="7632" y="6484"/>
                      </a:lnTo>
                      <a:lnTo>
                        <a:pt x="7443" y="6385"/>
                      </a:lnTo>
                      <a:lnTo>
                        <a:pt x="7315" y="6226"/>
                      </a:lnTo>
                      <a:lnTo>
                        <a:pt x="7263" y="6103"/>
                      </a:lnTo>
                      <a:lnTo>
                        <a:pt x="7169" y="5967"/>
                      </a:lnTo>
                      <a:lnTo>
                        <a:pt x="7022" y="5659"/>
                      </a:lnTo>
                      <a:lnTo>
                        <a:pt x="6893" y="5683"/>
                      </a:lnTo>
                      <a:lnTo>
                        <a:pt x="6722" y="5831"/>
                      </a:lnTo>
                      <a:lnTo>
                        <a:pt x="6645" y="5955"/>
                      </a:lnTo>
                      <a:lnTo>
                        <a:pt x="6491" y="6189"/>
                      </a:lnTo>
                      <a:lnTo>
                        <a:pt x="6379" y="6435"/>
                      </a:lnTo>
                      <a:lnTo>
                        <a:pt x="6336" y="6521"/>
                      </a:lnTo>
                      <a:lnTo>
                        <a:pt x="6379" y="6804"/>
                      </a:lnTo>
                      <a:lnTo>
                        <a:pt x="6370" y="7087"/>
                      </a:lnTo>
                      <a:lnTo>
                        <a:pt x="6233" y="7283"/>
                      </a:lnTo>
                      <a:lnTo>
                        <a:pt x="6156" y="7296"/>
                      </a:lnTo>
                      <a:lnTo>
                        <a:pt x="5993" y="6890"/>
                      </a:lnTo>
                      <a:lnTo>
                        <a:pt x="5865" y="6607"/>
                      </a:lnTo>
                      <a:lnTo>
                        <a:pt x="5607" y="6066"/>
                      </a:lnTo>
                      <a:lnTo>
                        <a:pt x="5599" y="5856"/>
                      </a:lnTo>
                      <a:lnTo>
                        <a:pt x="5539" y="5757"/>
                      </a:lnTo>
                      <a:lnTo>
                        <a:pt x="5496" y="5892"/>
                      </a:lnTo>
                      <a:lnTo>
                        <a:pt x="5273" y="5585"/>
                      </a:lnTo>
                      <a:lnTo>
                        <a:pt x="4973" y="5351"/>
                      </a:lnTo>
                      <a:lnTo>
                        <a:pt x="4784" y="5400"/>
                      </a:lnTo>
                      <a:lnTo>
                        <a:pt x="4510" y="5376"/>
                      </a:lnTo>
                      <a:lnTo>
                        <a:pt x="4381" y="5204"/>
                      </a:lnTo>
                      <a:lnTo>
                        <a:pt x="4236" y="5228"/>
                      </a:lnTo>
                      <a:lnTo>
                        <a:pt x="4030" y="5154"/>
                      </a:lnTo>
                      <a:lnTo>
                        <a:pt x="3601" y="4576"/>
                      </a:lnTo>
                      <a:lnTo>
                        <a:pt x="3627" y="4810"/>
                      </a:lnTo>
                      <a:lnTo>
                        <a:pt x="3756" y="5142"/>
                      </a:lnTo>
                      <a:lnTo>
                        <a:pt x="3901" y="5376"/>
                      </a:lnTo>
                      <a:lnTo>
                        <a:pt x="4056" y="5499"/>
                      </a:lnTo>
                      <a:lnTo>
                        <a:pt x="4227" y="5400"/>
                      </a:lnTo>
                      <a:lnTo>
                        <a:pt x="4364" y="5400"/>
                      </a:lnTo>
                      <a:lnTo>
                        <a:pt x="4544" y="5610"/>
                      </a:lnTo>
                      <a:lnTo>
                        <a:pt x="4647" y="5769"/>
                      </a:lnTo>
                      <a:lnTo>
                        <a:pt x="4630" y="5868"/>
                      </a:lnTo>
                      <a:lnTo>
                        <a:pt x="4321" y="6324"/>
                      </a:lnTo>
                      <a:lnTo>
                        <a:pt x="4116" y="6496"/>
                      </a:lnTo>
                      <a:lnTo>
                        <a:pt x="3687" y="6718"/>
                      </a:lnTo>
                      <a:lnTo>
                        <a:pt x="3558" y="6791"/>
                      </a:lnTo>
                      <a:lnTo>
                        <a:pt x="3481" y="6718"/>
                      </a:lnTo>
                      <a:lnTo>
                        <a:pt x="3456" y="6631"/>
                      </a:lnTo>
                      <a:lnTo>
                        <a:pt x="3447" y="6496"/>
                      </a:lnTo>
                      <a:lnTo>
                        <a:pt x="3413" y="6361"/>
                      </a:lnTo>
                      <a:lnTo>
                        <a:pt x="3353" y="6250"/>
                      </a:lnTo>
                      <a:lnTo>
                        <a:pt x="3301" y="6152"/>
                      </a:lnTo>
                      <a:lnTo>
                        <a:pt x="3224" y="6016"/>
                      </a:lnTo>
                      <a:lnTo>
                        <a:pt x="3181" y="5930"/>
                      </a:lnTo>
                      <a:lnTo>
                        <a:pt x="3147" y="5819"/>
                      </a:lnTo>
                      <a:lnTo>
                        <a:pt x="3087" y="5720"/>
                      </a:lnTo>
                      <a:lnTo>
                        <a:pt x="2993" y="5474"/>
                      </a:lnTo>
                      <a:lnTo>
                        <a:pt x="2941" y="5376"/>
                      </a:lnTo>
                      <a:lnTo>
                        <a:pt x="2873" y="5240"/>
                      </a:lnTo>
                      <a:lnTo>
                        <a:pt x="2761" y="5056"/>
                      </a:lnTo>
                      <a:lnTo>
                        <a:pt x="2701" y="4945"/>
                      </a:lnTo>
                      <a:lnTo>
                        <a:pt x="2650" y="4871"/>
                      </a:lnTo>
                      <a:lnTo>
                        <a:pt x="2590" y="4712"/>
                      </a:lnTo>
                      <a:lnTo>
                        <a:pt x="2770" y="4564"/>
                      </a:lnTo>
                      <a:lnTo>
                        <a:pt x="2847" y="4244"/>
                      </a:lnTo>
                      <a:lnTo>
                        <a:pt x="2675" y="4158"/>
                      </a:lnTo>
                      <a:lnTo>
                        <a:pt x="2444" y="4207"/>
                      </a:lnTo>
                      <a:lnTo>
                        <a:pt x="2392" y="4170"/>
                      </a:lnTo>
                      <a:lnTo>
                        <a:pt x="2367" y="4170"/>
                      </a:lnTo>
                      <a:lnTo>
                        <a:pt x="2331" y="4170"/>
                      </a:lnTo>
                      <a:lnTo>
                        <a:pt x="2306" y="4170"/>
                      </a:lnTo>
                      <a:lnTo>
                        <a:pt x="2297" y="4109"/>
                      </a:lnTo>
                      <a:lnTo>
                        <a:pt x="2280" y="4060"/>
                      </a:lnTo>
                      <a:lnTo>
                        <a:pt x="2280" y="3961"/>
                      </a:lnTo>
                      <a:lnTo>
                        <a:pt x="2237" y="3912"/>
                      </a:lnTo>
                      <a:lnTo>
                        <a:pt x="2229" y="3851"/>
                      </a:lnTo>
                      <a:lnTo>
                        <a:pt x="2203" y="3838"/>
                      </a:lnTo>
                      <a:lnTo>
                        <a:pt x="2177" y="3789"/>
                      </a:lnTo>
                      <a:lnTo>
                        <a:pt x="2169" y="3740"/>
                      </a:lnTo>
                      <a:lnTo>
                        <a:pt x="2151" y="3691"/>
                      </a:lnTo>
                      <a:lnTo>
                        <a:pt x="2134" y="3666"/>
                      </a:lnTo>
                      <a:lnTo>
                        <a:pt x="2083" y="3666"/>
                      </a:lnTo>
                      <a:lnTo>
                        <a:pt x="2049" y="3666"/>
                      </a:lnTo>
                      <a:lnTo>
                        <a:pt x="2031" y="3666"/>
                      </a:lnTo>
                      <a:lnTo>
                        <a:pt x="2023" y="3728"/>
                      </a:lnTo>
                      <a:lnTo>
                        <a:pt x="2023" y="3789"/>
                      </a:lnTo>
                      <a:lnTo>
                        <a:pt x="2023" y="3863"/>
                      </a:lnTo>
                      <a:lnTo>
                        <a:pt x="2023" y="3937"/>
                      </a:lnTo>
                      <a:lnTo>
                        <a:pt x="2023" y="3986"/>
                      </a:lnTo>
                      <a:lnTo>
                        <a:pt x="1980" y="4010"/>
                      </a:lnTo>
                      <a:lnTo>
                        <a:pt x="1946" y="4060"/>
                      </a:lnTo>
                      <a:lnTo>
                        <a:pt x="1894" y="3986"/>
                      </a:lnTo>
                      <a:lnTo>
                        <a:pt x="1860" y="3887"/>
                      </a:lnTo>
                      <a:lnTo>
                        <a:pt x="1868" y="3777"/>
                      </a:lnTo>
                      <a:lnTo>
                        <a:pt x="1817" y="3629"/>
                      </a:lnTo>
                      <a:lnTo>
                        <a:pt x="1791" y="3531"/>
                      </a:lnTo>
                      <a:lnTo>
                        <a:pt x="1731" y="3469"/>
                      </a:lnTo>
                      <a:lnTo>
                        <a:pt x="1663" y="3408"/>
                      </a:lnTo>
                      <a:lnTo>
                        <a:pt x="1628" y="3322"/>
                      </a:lnTo>
                      <a:lnTo>
                        <a:pt x="1603" y="3260"/>
                      </a:lnTo>
                      <a:lnTo>
                        <a:pt x="1543" y="3248"/>
                      </a:lnTo>
                      <a:lnTo>
                        <a:pt x="1526" y="3211"/>
                      </a:lnTo>
                      <a:lnTo>
                        <a:pt x="1483" y="3211"/>
                      </a:lnTo>
                      <a:lnTo>
                        <a:pt x="1448" y="3272"/>
                      </a:lnTo>
                      <a:lnTo>
                        <a:pt x="1414" y="3322"/>
                      </a:lnTo>
                      <a:lnTo>
                        <a:pt x="1491" y="3383"/>
                      </a:lnTo>
                      <a:lnTo>
                        <a:pt x="1534" y="3469"/>
                      </a:lnTo>
                      <a:lnTo>
                        <a:pt x="1611" y="3580"/>
                      </a:lnTo>
                      <a:lnTo>
                        <a:pt x="1646" y="3629"/>
                      </a:lnTo>
                      <a:lnTo>
                        <a:pt x="1706" y="3666"/>
                      </a:lnTo>
                      <a:lnTo>
                        <a:pt x="1748" y="3740"/>
                      </a:lnTo>
                      <a:lnTo>
                        <a:pt x="1697" y="3826"/>
                      </a:lnTo>
                      <a:lnTo>
                        <a:pt x="1688" y="3789"/>
                      </a:lnTo>
                      <a:lnTo>
                        <a:pt x="1688" y="3740"/>
                      </a:lnTo>
                      <a:lnTo>
                        <a:pt x="1663" y="3851"/>
                      </a:lnTo>
                      <a:lnTo>
                        <a:pt x="1654" y="3949"/>
                      </a:lnTo>
                      <a:lnTo>
                        <a:pt x="1603" y="3974"/>
                      </a:lnTo>
                      <a:lnTo>
                        <a:pt x="1620" y="3851"/>
                      </a:lnTo>
                      <a:lnTo>
                        <a:pt x="1611" y="3789"/>
                      </a:lnTo>
                      <a:lnTo>
                        <a:pt x="1551" y="3752"/>
                      </a:lnTo>
                      <a:lnTo>
                        <a:pt x="1526" y="3728"/>
                      </a:lnTo>
                      <a:lnTo>
                        <a:pt x="1500" y="3678"/>
                      </a:lnTo>
                      <a:lnTo>
                        <a:pt x="1448" y="3654"/>
                      </a:lnTo>
                      <a:lnTo>
                        <a:pt x="1414" y="3617"/>
                      </a:lnTo>
                      <a:lnTo>
                        <a:pt x="1380" y="3543"/>
                      </a:lnTo>
                      <a:lnTo>
                        <a:pt x="1337" y="3506"/>
                      </a:lnTo>
                      <a:lnTo>
                        <a:pt x="1311" y="3432"/>
                      </a:lnTo>
                      <a:lnTo>
                        <a:pt x="1303" y="3371"/>
                      </a:lnTo>
                      <a:lnTo>
                        <a:pt x="1268" y="3346"/>
                      </a:lnTo>
                      <a:lnTo>
                        <a:pt x="1234" y="3309"/>
                      </a:lnTo>
                      <a:lnTo>
                        <a:pt x="1165" y="3309"/>
                      </a:lnTo>
                      <a:lnTo>
                        <a:pt x="1105" y="3322"/>
                      </a:lnTo>
                      <a:lnTo>
                        <a:pt x="1037" y="3309"/>
                      </a:lnTo>
                      <a:lnTo>
                        <a:pt x="917" y="3322"/>
                      </a:lnTo>
                      <a:lnTo>
                        <a:pt x="831" y="3334"/>
                      </a:lnTo>
                      <a:lnTo>
                        <a:pt x="805" y="3359"/>
                      </a:lnTo>
                      <a:lnTo>
                        <a:pt x="797" y="3432"/>
                      </a:lnTo>
                      <a:lnTo>
                        <a:pt x="797" y="3518"/>
                      </a:lnTo>
                      <a:lnTo>
                        <a:pt x="745" y="3605"/>
                      </a:lnTo>
                      <a:lnTo>
                        <a:pt x="711" y="3641"/>
                      </a:lnTo>
                      <a:lnTo>
                        <a:pt x="694" y="3666"/>
                      </a:lnTo>
                      <a:lnTo>
                        <a:pt x="668" y="3728"/>
                      </a:lnTo>
                      <a:lnTo>
                        <a:pt x="651" y="3777"/>
                      </a:lnTo>
                      <a:lnTo>
                        <a:pt x="677" y="3814"/>
                      </a:lnTo>
                      <a:lnTo>
                        <a:pt x="677" y="3887"/>
                      </a:lnTo>
                      <a:lnTo>
                        <a:pt x="668" y="3924"/>
                      </a:lnTo>
                      <a:lnTo>
                        <a:pt x="651" y="3974"/>
                      </a:lnTo>
                      <a:lnTo>
                        <a:pt x="608" y="4060"/>
                      </a:lnTo>
                      <a:lnTo>
                        <a:pt x="582" y="4023"/>
                      </a:lnTo>
                      <a:lnTo>
                        <a:pt x="557" y="4047"/>
                      </a:lnTo>
                      <a:lnTo>
                        <a:pt x="522" y="4084"/>
                      </a:lnTo>
                      <a:lnTo>
                        <a:pt x="471" y="4097"/>
                      </a:lnTo>
                      <a:lnTo>
                        <a:pt x="420" y="4158"/>
                      </a:lnTo>
                      <a:lnTo>
                        <a:pt x="368" y="4170"/>
                      </a:lnTo>
                      <a:lnTo>
                        <a:pt x="317" y="4170"/>
                      </a:lnTo>
                      <a:lnTo>
                        <a:pt x="265" y="4170"/>
                      </a:lnTo>
                      <a:lnTo>
                        <a:pt x="154" y="4207"/>
                      </a:lnTo>
                      <a:lnTo>
                        <a:pt x="102" y="4207"/>
                      </a:lnTo>
                      <a:lnTo>
                        <a:pt x="77" y="4121"/>
                      </a:lnTo>
                      <a:lnTo>
                        <a:pt x="51" y="4010"/>
                      </a:lnTo>
                      <a:lnTo>
                        <a:pt x="34" y="3912"/>
                      </a:lnTo>
                      <a:lnTo>
                        <a:pt x="25" y="3814"/>
                      </a:lnTo>
                      <a:lnTo>
                        <a:pt x="25" y="3691"/>
                      </a:lnTo>
                      <a:lnTo>
                        <a:pt x="0" y="3543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59200" cy="5254920"/>
              <a:chOff x="146160" y="976320"/>
              <a:chExt cx="2959200" cy="525492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2320" cy="2459520"/>
              </a:xfrm>
              <a:custGeom>
                <a:avLst/>
                <a:gdLst/>
                <a:ahLst/>
                <a:rect l="0" t="0" r="r" b="b"/>
                <a:pathLst>
                  <a:path w="5562" h="6832">
                    <a:moveTo>
                      <a:pt x="0" y="1757"/>
                    </a:moveTo>
                    <a:lnTo>
                      <a:pt x="265" y="1523"/>
                    </a:lnTo>
                    <a:lnTo>
                      <a:pt x="419" y="1425"/>
                    </a:lnTo>
                    <a:lnTo>
                      <a:pt x="445" y="1277"/>
                    </a:lnTo>
                    <a:lnTo>
                      <a:pt x="325" y="1191"/>
                    </a:lnTo>
                    <a:lnTo>
                      <a:pt x="317" y="1019"/>
                    </a:lnTo>
                    <a:lnTo>
                      <a:pt x="368" y="970"/>
                    </a:lnTo>
                    <a:lnTo>
                      <a:pt x="359" y="896"/>
                    </a:lnTo>
                    <a:lnTo>
                      <a:pt x="565" y="872"/>
                    </a:lnTo>
                    <a:lnTo>
                      <a:pt x="616" y="737"/>
                    </a:lnTo>
                    <a:lnTo>
                      <a:pt x="625" y="614"/>
                    </a:lnTo>
                    <a:lnTo>
                      <a:pt x="796" y="577"/>
                    </a:lnTo>
                    <a:lnTo>
                      <a:pt x="813" y="454"/>
                    </a:lnTo>
                    <a:lnTo>
                      <a:pt x="651" y="417"/>
                    </a:lnTo>
                    <a:lnTo>
                      <a:pt x="728" y="331"/>
                    </a:lnTo>
                    <a:lnTo>
                      <a:pt x="993" y="331"/>
                    </a:lnTo>
                    <a:lnTo>
                      <a:pt x="1071" y="233"/>
                    </a:lnTo>
                    <a:lnTo>
                      <a:pt x="1182" y="221"/>
                    </a:lnTo>
                    <a:lnTo>
                      <a:pt x="1250" y="147"/>
                    </a:lnTo>
                    <a:lnTo>
                      <a:pt x="1336" y="282"/>
                    </a:lnTo>
                    <a:lnTo>
                      <a:pt x="1671" y="257"/>
                    </a:lnTo>
                    <a:lnTo>
                      <a:pt x="1825" y="405"/>
                    </a:lnTo>
                    <a:lnTo>
                      <a:pt x="2322" y="368"/>
                    </a:lnTo>
                    <a:lnTo>
                      <a:pt x="2400" y="294"/>
                    </a:lnTo>
                    <a:lnTo>
                      <a:pt x="2588" y="417"/>
                    </a:lnTo>
                    <a:lnTo>
                      <a:pt x="2785" y="528"/>
                    </a:lnTo>
                    <a:lnTo>
                      <a:pt x="2879" y="479"/>
                    </a:lnTo>
                    <a:lnTo>
                      <a:pt x="2939" y="417"/>
                    </a:lnTo>
                    <a:lnTo>
                      <a:pt x="3102" y="454"/>
                    </a:lnTo>
                    <a:lnTo>
                      <a:pt x="2991" y="368"/>
                    </a:lnTo>
                    <a:lnTo>
                      <a:pt x="2888" y="380"/>
                    </a:lnTo>
                    <a:lnTo>
                      <a:pt x="2734" y="405"/>
                    </a:lnTo>
                    <a:lnTo>
                      <a:pt x="2657" y="282"/>
                    </a:lnTo>
                    <a:lnTo>
                      <a:pt x="2571" y="221"/>
                    </a:lnTo>
                    <a:lnTo>
                      <a:pt x="2571" y="122"/>
                    </a:lnTo>
                    <a:lnTo>
                      <a:pt x="2597" y="12"/>
                    </a:lnTo>
                    <a:lnTo>
                      <a:pt x="2665" y="0"/>
                    </a:lnTo>
                    <a:lnTo>
                      <a:pt x="2759" y="98"/>
                    </a:lnTo>
                    <a:lnTo>
                      <a:pt x="2785" y="49"/>
                    </a:lnTo>
                    <a:lnTo>
                      <a:pt x="2862" y="0"/>
                    </a:lnTo>
                    <a:lnTo>
                      <a:pt x="2956" y="73"/>
                    </a:lnTo>
                    <a:lnTo>
                      <a:pt x="3008" y="12"/>
                    </a:lnTo>
                    <a:lnTo>
                      <a:pt x="3059" y="110"/>
                    </a:lnTo>
                    <a:lnTo>
                      <a:pt x="3068" y="171"/>
                    </a:lnTo>
                    <a:lnTo>
                      <a:pt x="3205" y="257"/>
                    </a:lnTo>
                    <a:lnTo>
                      <a:pt x="3154" y="331"/>
                    </a:lnTo>
                    <a:lnTo>
                      <a:pt x="3154" y="429"/>
                    </a:lnTo>
                    <a:lnTo>
                      <a:pt x="3385" y="454"/>
                    </a:lnTo>
                    <a:lnTo>
                      <a:pt x="3445" y="331"/>
                    </a:lnTo>
                    <a:lnTo>
                      <a:pt x="3402" y="270"/>
                    </a:lnTo>
                    <a:lnTo>
                      <a:pt x="3299" y="282"/>
                    </a:lnTo>
                    <a:lnTo>
                      <a:pt x="3325" y="147"/>
                    </a:lnTo>
                    <a:lnTo>
                      <a:pt x="3531" y="221"/>
                    </a:lnTo>
                    <a:lnTo>
                      <a:pt x="3573" y="319"/>
                    </a:lnTo>
                    <a:lnTo>
                      <a:pt x="3745" y="319"/>
                    </a:lnTo>
                    <a:lnTo>
                      <a:pt x="3899" y="442"/>
                    </a:lnTo>
                    <a:lnTo>
                      <a:pt x="3985" y="417"/>
                    </a:lnTo>
                    <a:lnTo>
                      <a:pt x="4079" y="528"/>
                    </a:lnTo>
                    <a:lnTo>
                      <a:pt x="3985" y="675"/>
                    </a:lnTo>
                    <a:lnTo>
                      <a:pt x="3908" y="565"/>
                    </a:lnTo>
                    <a:lnTo>
                      <a:pt x="3856" y="601"/>
                    </a:lnTo>
                    <a:lnTo>
                      <a:pt x="3788" y="687"/>
                    </a:lnTo>
                    <a:lnTo>
                      <a:pt x="3676" y="761"/>
                    </a:lnTo>
                    <a:lnTo>
                      <a:pt x="3736" y="872"/>
                    </a:lnTo>
                    <a:lnTo>
                      <a:pt x="3633" y="884"/>
                    </a:lnTo>
                    <a:lnTo>
                      <a:pt x="3548" y="1031"/>
                    </a:lnTo>
                    <a:lnTo>
                      <a:pt x="3462" y="1216"/>
                    </a:lnTo>
                    <a:lnTo>
                      <a:pt x="3591" y="1375"/>
                    </a:lnTo>
                    <a:lnTo>
                      <a:pt x="3693" y="1560"/>
                    </a:lnTo>
                    <a:lnTo>
                      <a:pt x="3873" y="1584"/>
                    </a:lnTo>
                    <a:lnTo>
                      <a:pt x="4045" y="1560"/>
                    </a:lnTo>
                    <a:lnTo>
                      <a:pt x="4122" y="1658"/>
                    </a:lnTo>
                    <a:lnTo>
                      <a:pt x="4087" y="1707"/>
                    </a:lnTo>
                    <a:lnTo>
                      <a:pt x="4036" y="1806"/>
                    </a:lnTo>
                    <a:lnTo>
                      <a:pt x="4113" y="1978"/>
                    </a:lnTo>
                    <a:lnTo>
                      <a:pt x="4139" y="2101"/>
                    </a:lnTo>
                    <a:lnTo>
                      <a:pt x="4234" y="2163"/>
                    </a:lnTo>
                    <a:lnTo>
                      <a:pt x="4363" y="2052"/>
                    </a:lnTo>
                    <a:lnTo>
                      <a:pt x="4328" y="1892"/>
                    </a:lnTo>
                    <a:lnTo>
                      <a:pt x="4217" y="1757"/>
                    </a:lnTo>
                    <a:lnTo>
                      <a:pt x="4345" y="1597"/>
                    </a:lnTo>
                    <a:lnTo>
                      <a:pt x="4234" y="1326"/>
                    </a:lnTo>
                    <a:lnTo>
                      <a:pt x="4130" y="1216"/>
                    </a:lnTo>
                    <a:lnTo>
                      <a:pt x="4217" y="1117"/>
                    </a:lnTo>
                    <a:lnTo>
                      <a:pt x="4200" y="970"/>
                    </a:lnTo>
                    <a:lnTo>
                      <a:pt x="4260" y="884"/>
                    </a:lnTo>
                    <a:lnTo>
                      <a:pt x="4363" y="970"/>
                    </a:lnTo>
                    <a:lnTo>
                      <a:pt x="4603" y="1289"/>
                    </a:lnTo>
                    <a:lnTo>
                      <a:pt x="4748" y="1339"/>
                    </a:lnTo>
                    <a:lnTo>
                      <a:pt x="4791" y="1253"/>
                    </a:lnTo>
                    <a:lnTo>
                      <a:pt x="4757" y="1081"/>
                    </a:lnTo>
                    <a:lnTo>
                      <a:pt x="4842" y="1105"/>
                    </a:lnTo>
                    <a:lnTo>
                      <a:pt x="4988" y="1302"/>
                    </a:lnTo>
                    <a:lnTo>
                      <a:pt x="5014" y="1412"/>
                    </a:lnTo>
                    <a:lnTo>
                      <a:pt x="5099" y="1486"/>
                    </a:lnTo>
                    <a:lnTo>
                      <a:pt x="5271" y="1572"/>
                    </a:lnTo>
                    <a:lnTo>
                      <a:pt x="5357" y="1733"/>
                    </a:lnTo>
                    <a:lnTo>
                      <a:pt x="5485" y="1843"/>
                    </a:lnTo>
                    <a:lnTo>
                      <a:pt x="5554" y="1880"/>
                    </a:lnTo>
                    <a:lnTo>
                      <a:pt x="5562" y="1978"/>
                    </a:lnTo>
                    <a:lnTo>
                      <a:pt x="5459" y="2040"/>
                    </a:lnTo>
                    <a:lnTo>
                      <a:pt x="5399" y="1966"/>
                    </a:lnTo>
                    <a:lnTo>
                      <a:pt x="5348" y="1978"/>
                    </a:lnTo>
                    <a:lnTo>
                      <a:pt x="5331" y="2138"/>
                    </a:lnTo>
                    <a:lnTo>
                      <a:pt x="5245" y="2175"/>
                    </a:lnTo>
                    <a:lnTo>
                      <a:pt x="5151" y="2089"/>
                    </a:lnTo>
                    <a:lnTo>
                      <a:pt x="4954" y="2089"/>
                    </a:lnTo>
                    <a:lnTo>
                      <a:pt x="4928" y="2273"/>
                    </a:lnTo>
                    <a:lnTo>
                      <a:pt x="4980" y="2384"/>
                    </a:lnTo>
                    <a:lnTo>
                      <a:pt x="5057" y="2322"/>
                    </a:lnTo>
                    <a:lnTo>
                      <a:pt x="5134" y="2298"/>
                    </a:lnTo>
                    <a:lnTo>
                      <a:pt x="5211" y="2359"/>
                    </a:lnTo>
                    <a:lnTo>
                      <a:pt x="5108" y="2494"/>
                    </a:lnTo>
                    <a:lnTo>
                      <a:pt x="5211" y="2617"/>
                    </a:lnTo>
                    <a:lnTo>
                      <a:pt x="5348" y="2654"/>
                    </a:lnTo>
                    <a:lnTo>
                      <a:pt x="5331" y="2728"/>
                    </a:lnTo>
                    <a:lnTo>
                      <a:pt x="5279" y="2740"/>
                    </a:lnTo>
                    <a:lnTo>
                      <a:pt x="5151" y="3158"/>
                    </a:lnTo>
                    <a:lnTo>
                      <a:pt x="5159" y="2888"/>
                    </a:lnTo>
                    <a:lnTo>
                      <a:pt x="5219" y="2752"/>
                    </a:lnTo>
                    <a:lnTo>
                      <a:pt x="5151" y="2691"/>
                    </a:lnTo>
                    <a:lnTo>
                      <a:pt x="5074" y="2777"/>
                    </a:lnTo>
                    <a:lnTo>
                      <a:pt x="5117" y="2851"/>
                    </a:lnTo>
                    <a:lnTo>
                      <a:pt x="5057" y="2900"/>
                    </a:lnTo>
                    <a:lnTo>
                      <a:pt x="4997" y="2961"/>
                    </a:lnTo>
                    <a:lnTo>
                      <a:pt x="5005" y="3146"/>
                    </a:lnTo>
                    <a:lnTo>
                      <a:pt x="4920" y="3207"/>
                    </a:lnTo>
                    <a:lnTo>
                      <a:pt x="4800" y="3219"/>
                    </a:lnTo>
                    <a:lnTo>
                      <a:pt x="4842" y="3318"/>
                    </a:lnTo>
                    <a:lnTo>
                      <a:pt x="4800" y="3428"/>
                    </a:lnTo>
                    <a:lnTo>
                      <a:pt x="4842" y="3514"/>
                    </a:lnTo>
                    <a:lnTo>
                      <a:pt x="4774" y="3698"/>
                    </a:lnTo>
                    <a:lnTo>
                      <a:pt x="4748" y="3870"/>
                    </a:lnTo>
                    <a:lnTo>
                      <a:pt x="4645" y="3969"/>
                    </a:lnTo>
                    <a:lnTo>
                      <a:pt x="4517" y="4239"/>
                    </a:lnTo>
                    <a:lnTo>
                      <a:pt x="4500" y="4423"/>
                    </a:lnTo>
                    <a:lnTo>
                      <a:pt x="4543" y="4571"/>
                    </a:lnTo>
                    <a:lnTo>
                      <a:pt x="4603" y="4755"/>
                    </a:lnTo>
                    <a:lnTo>
                      <a:pt x="4637" y="4952"/>
                    </a:lnTo>
                    <a:lnTo>
                      <a:pt x="4577" y="5037"/>
                    </a:lnTo>
                    <a:lnTo>
                      <a:pt x="4500" y="4976"/>
                    </a:lnTo>
                    <a:lnTo>
                      <a:pt x="4517" y="4878"/>
                    </a:lnTo>
                    <a:lnTo>
                      <a:pt x="4474" y="4657"/>
                    </a:lnTo>
                    <a:lnTo>
                      <a:pt x="4423" y="4620"/>
                    </a:lnTo>
                    <a:lnTo>
                      <a:pt x="4388" y="4485"/>
                    </a:lnTo>
                    <a:lnTo>
                      <a:pt x="4320" y="4485"/>
                    </a:lnTo>
                    <a:lnTo>
                      <a:pt x="4243" y="4411"/>
                    </a:lnTo>
                    <a:lnTo>
                      <a:pt x="4156" y="4436"/>
                    </a:lnTo>
                    <a:lnTo>
                      <a:pt x="4079" y="4386"/>
                    </a:lnTo>
                    <a:lnTo>
                      <a:pt x="3985" y="4448"/>
                    </a:lnTo>
                    <a:lnTo>
                      <a:pt x="3813" y="4399"/>
                    </a:lnTo>
                    <a:lnTo>
                      <a:pt x="3925" y="4558"/>
                    </a:lnTo>
                    <a:lnTo>
                      <a:pt x="3788" y="4546"/>
                    </a:lnTo>
                    <a:lnTo>
                      <a:pt x="3693" y="4423"/>
                    </a:lnTo>
                    <a:lnTo>
                      <a:pt x="3522" y="4423"/>
                    </a:lnTo>
                    <a:lnTo>
                      <a:pt x="3548" y="4620"/>
                    </a:lnTo>
                    <a:lnTo>
                      <a:pt x="3419" y="4558"/>
                    </a:lnTo>
                    <a:lnTo>
                      <a:pt x="3351" y="4755"/>
                    </a:lnTo>
                    <a:lnTo>
                      <a:pt x="3402" y="4841"/>
                    </a:lnTo>
                    <a:lnTo>
                      <a:pt x="3351" y="5074"/>
                    </a:lnTo>
                    <a:lnTo>
                      <a:pt x="3411" y="5346"/>
                    </a:lnTo>
                    <a:lnTo>
                      <a:pt x="3479" y="5530"/>
                    </a:lnTo>
                    <a:lnTo>
                      <a:pt x="3556" y="5702"/>
                    </a:lnTo>
                    <a:lnTo>
                      <a:pt x="3788" y="5690"/>
                    </a:lnTo>
                    <a:lnTo>
                      <a:pt x="3882" y="5653"/>
                    </a:lnTo>
                    <a:lnTo>
                      <a:pt x="3899" y="5530"/>
                    </a:lnTo>
                    <a:lnTo>
                      <a:pt x="3848" y="5432"/>
                    </a:lnTo>
                    <a:lnTo>
                      <a:pt x="3856" y="5346"/>
                    </a:lnTo>
                    <a:lnTo>
                      <a:pt x="4002" y="5370"/>
                    </a:lnTo>
                    <a:lnTo>
                      <a:pt x="4147" y="5321"/>
                    </a:lnTo>
                    <a:lnTo>
                      <a:pt x="4147" y="5432"/>
                    </a:lnTo>
                    <a:lnTo>
                      <a:pt x="4105" y="5591"/>
                    </a:lnTo>
                    <a:lnTo>
                      <a:pt x="4036" y="5714"/>
                    </a:lnTo>
                    <a:lnTo>
                      <a:pt x="4019" y="5886"/>
                    </a:lnTo>
                    <a:lnTo>
                      <a:pt x="4113" y="5960"/>
                    </a:lnTo>
                    <a:lnTo>
                      <a:pt x="4243" y="5935"/>
                    </a:lnTo>
                    <a:lnTo>
                      <a:pt x="4320" y="5997"/>
                    </a:lnTo>
                    <a:lnTo>
                      <a:pt x="4388" y="5972"/>
                    </a:lnTo>
                    <a:lnTo>
                      <a:pt x="4414" y="6083"/>
                    </a:lnTo>
                    <a:lnTo>
                      <a:pt x="4354" y="6242"/>
                    </a:lnTo>
                    <a:lnTo>
                      <a:pt x="4405" y="6341"/>
                    </a:lnTo>
                    <a:lnTo>
                      <a:pt x="4414" y="6537"/>
                    </a:lnTo>
                    <a:lnTo>
                      <a:pt x="4500" y="6672"/>
                    </a:lnTo>
                    <a:lnTo>
                      <a:pt x="4611" y="6709"/>
                    </a:lnTo>
                    <a:lnTo>
                      <a:pt x="4688" y="6672"/>
                    </a:lnTo>
                    <a:lnTo>
                      <a:pt x="4722" y="6685"/>
                    </a:lnTo>
                    <a:lnTo>
                      <a:pt x="4868" y="6685"/>
                    </a:lnTo>
                    <a:lnTo>
                      <a:pt x="4997" y="6697"/>
                    </a:lnTo>
                    <a:lnTo>
                      <a:pt x="5031" y="6611"/>
                    </a:lnTo>
                    <a:lnTo>
                      <a:pt x="4920" y="6758"/>
                    </a:lnTo>
                    <a:lnTo>
                      <a:pt x="4842" y="6746"/>
                    </a:lnTo>
                    <a:lnTo>
                      <a:pt x="4765" y="6758"/>
                    </a:lnTo>
                    <a:lnTo>
                      <a:pt x="4611" y="6832"/>
                    </a:lnTo>
                    <a:lnTo>
                      <a:pt x="4483" y="6734"/>
                    </a:lnTo>
                    <a:lnTo>
                      <a:pt x="4363" y="6672"/>
                    </a:lnTo>
                    <a:lnTo>
                      <a:pt x="4311" y="6685"/>
                    </a:lnTo>
                    <a:lnTo>
                      <a:pt x="4320" y="6599"/>
                    </a:lnTo>
                    <a:lnTo>
                      <a:pt x="4311" y="6464"/>
                    </a:lnTo>
                    <a:lnTo>
                      <a:pt x="4208" y="6341"/>
                    </a:lnTo>
                    <a:lnTo>
                      <a:pt x="3993" y="6267"/>
                    </a:lnTo>
                    <a:lnTo>
                      <a:pt x="3959" y="6218"/>
                    </a:lnTo>
                    <a:lnTo>
                      <a:pt x="3899" y="6230"/>
                    </a:lnTo>
                    <a:lnTo>
                      <a:pt x="3839" y="6169"/>
                    </a:lnTo>
                    <a:lnTo>
                      <a:pt x="3762" y="6107"/>
                    </a:lnTo>
                    <a:lnTo>
                      <a:pt x="3659" y="5935"/>
                    </a:lnTo>
                    <a:lnTo>
                      <a:pt x="3539" y="5886"/>
                    </a:lnTo>
                    <a:lnTo>
                      <a:pt x="3471" y="5997"/>
                    </a:lnTo>
                    <a:lnTo>
                      <a:pt x="3393" y="5911"/>
                    </a:lnTo>
                    <a:lnTo>
                      <a:pt x="3299" y="5911"/>
                    </a:lnTo>
                    <a:lnTo>
                      <a:pt x="3111" y="5849"/>
                    </a:lnTo>
                    <a:lnTo>
                      <a:pt x="2768" y="5554"/>
                    </a:lnTo>
                    <a:lnTo>
                      <a:pt x="2742" y="5247"/>
                    </a:lnTo>
                    <a:lnTo>
                      <a:pt x="2708" y="5123"/>
                    </a:lnTo>
                    <a:lnTo>
                      <a:pt x="2648" y="5037"/>
                    </a:lnTo>
                    <a:lnTo>
                      <a:pt x="2571" y="4866"/>
                    </a:lnTo>
                    <a:lnTo>
                      <a:pt x="2211" y="4276"/>
                    </a:lnTo>
                    <a:lnTo>
                      <a:pt x="2211" y="4497"/>
                    </a:lnTo>
                    <a:lnTo>
                      <a:pt x="2434" y="4890"/>
                    </a:lnTo>
                    <a:lnTo>
                      <a:pt x="2528" y="5223"/>
                    </a:lnTo>
                    <a:lnTo>
                      <a:pt x="2391" y="5149"/>
                    </a:lnTo>
                    <a:lnTo>
                      <a:pt x="2365" y="4952"/>
                    </a:lnTo>
                    <a:lnTo>
                      <a:pt x="2185" y="4829"/>
                    </a:lnTo>
                    <a:lnTo>
                      <a:pt x="2288" y="4755"/>
                    </a:lnTo>
                    <a:lnTo>
                      <a:pt x="2048" y="4546"/>
                    </a:lnTo>
                    <a:lnTo>
                      <a:pt x="2143" y="4423"/>
                    </a:lnTo>
                    <a:lnTo>
                      <a:pt x="2057" y="4178"/>
                    </a:lnTo>
                    <a:lnTo>
                      <a:pt x="1766" y="3662"/>
                    </a:lnTo>
                    <a:lnTo>
                      <a:pt x="1731" y="3367"/>
                    </a:lnTo>
                    <a:lnTo>
                      <a:pt x="1748" y="3146"/>
                    </a:lnTo>
                    <a:lnTo>
                      <a:pt x="1825" y="2900"/>
                    </a:lnTo>
                    <a:lnTo>
                      <a:pt x="1825" y="2654"/>
                    </a:lnTo>
                    <a:lnTo>
                      <a:pt x="1766" y="2507"/>
                    </a:lnTo>
                    <a:lnTo>
                      <a:pt x="1928" y="2458"/>
                    </a:lnTo>
                    <a:lnTo>
                      <a:pt x="1731" y="2163"/>
                    </a:lnTo>
                    <a:lnTo>
                      <a:pt x="1740" y="2028"/>
                    </a:lnTo>
                    <a:lnTo>
                      <a:pt x="1654" y="1843"/>
                    </a:lnTo>
                    <a:lnTo>
                      <a:pt x="1688" y="1733"/>
                    </a:lnTo>
                    <a:lnTo>
                      <a:pt x="1628" y="1670"/>
                    </a:lnTo>
                    <a:lnTo>
                      <a:pt x="1620" y="1547"/>
                    </a:lnTo>
                    <a:lnTo>
                      <a:pt x="1560" y="1449"/>
                    </a:lnTo>
                    <a:lnTo>
                      <a:pt x="1628" y="1363"/>
                    </a:lnTo>
                    <a:lnTo>
                      <a:pt x="1534" y="1302"/>
                    </a:lnTo>
                    <a:lnTo>
                      <a:pt x="1457" y="1388"/>
                    </a:lnTo>
                    <a:lnTo>
                      <a:pt x="1345" y="1216"/>
                    </a:lnTo>
                    <a:lnTo>
                      <a:pt x="1225" y="1167"/>
                    </a:lnTo>
                    <a:lnTo>
                      <a:pt x="1053" y="1167"/>
                    </a:lnTo>
                    <a:lnTo>
                      <a:pt x="942" y="1326"/>
                    </a:lnTo>
                    <a:lnTo>
                      <a:pt x="891" y="1277"/>
                    </a:lnTo>
                    <a:lnTo>
                      <a:pt x="985" y="1068"/>
                    </a:lnTo>
                    <a:lnTo>
                      <a:pt x="899" y="1105"/>
                    </a:lnTo>
                    <a:lnTo>
                      <a:pt x="728" y="1326"/>
                    </a:lnTo>
                    <a:lnTo>
                      <a:pt x="548" y="1523"/>
                    </a:lnTo>
                    <a:lnTo>
                      <a:pt x="385" y="1572"/>
                    </a:lnTo>
                    <a:lnTo>
                      <a:pt x="111" y="1770"/>
                    </a:lnTo>
                    <a:lnTo>
                      <a:pt x="0" y="1757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79680" cy="646560"/>
              </a:xfrm>
              <a:custGeom>
                <a:avLst/>
                <a:gdLst/>
                <a:ahLst/>
                <a:rect l="0" t="0" r="r" b="b"/>
                <a:pathLst>
                  <a:path w="1888" h="1796">
                    <a:moveTo>
                      <a:pt x="0" y="368"/>
                    </a:moveTo>
                    <a:lnTo>
                      <a:pt x="42" y="233"/>
                    </a:lnTo>
                    <a:lnTo>
                      <a:pt x="42" y="135"/>
                    </a:lnTo>
                    <a:lnTo>
                      <a:pt x="111" y="0"/>
                    </a:lnTo>
                    <a:lnTo>
                      <a:pt x="452" y="86"/>
                    </a:lnTo>
                    <a:lnTo>
                      <a:pt x="1042" y="245"/>
                    </a:lnTo>
                    <a:lnTo>
                      <a:pt x="1273" y="381"/>
                    </a:lnTo>
                    <a:lnTo>
                      <a:pt x="1580" y="505"/>
                    </a:lnTo>
                    <a:lnTo>
                      <a:pt x="1734" y="738"/>
                    </a:lnTo>
                    <a:lnTo>
                      <a:pt x="1888" y="849"/>
                    </a:lnTo>
                    <a:lnTo>
                      <a:pt x="1828" y="935"/>
                    </a:lnTo>
                    <a:lnTo>
                      <a:pt x="1828" y="1045"/>
                    </a:lnTo>
                    <a:lnTo>
                      <a:pt x="1768" y="1070"/>
                    </a:lnTo>
                    <a:lnTo>
                      <a:pt x="1717" y="1168"/>
                    </a:lnTo>
                    <a:lnTo>
                      <a:pt x="1768" y="1267"/>
                    </a:lnTo>
                    <a:lnTo>
                      <a:pt x="1760" y="1340"/>
                    </a:lnTo>
                    <a:lnTo>
                      <a:pt x="1700" y="1440"/>
                    </a:lnTo>
                    <a:lnTo>
                      <a:pt x="1709" y="1538"/>
                    </a:lnTo>
                    <a:lnTo>
                      <a:pt x="1811" y="1636"/>
                    </a:lnTo>
                    <a:lnTo>
                      <a:pt x="1820" y="1735"/>
                    </a:lnTo>
                    <a:lnTo>
                      <a:pt x="1794" y="1784"/>
                    </a:lnTo>
                    <a:lnTo>
                      <a:pt x="1691" y="1796"/>
                    </a:lnTo>
                    <a:lnTo>
                      <a:pt x="1615" y="1747"/>
                    </a:lnTo>
                    <a:lnTo>
                      <a:pt x="1529" y="1624"/>
                    </a:lnTo>
                    <a:lnTo>
                      <a:pt x="1495" y="1624"/>
                    </a:lnTo>
                    <a:lnTo>
                      <a:pt x="1452" y="1575"/>
                    </a:lnTo>
                    <a:lnTo>
                      <a:pt x="1410" y="1427"/>
                    </a:lnTo>
                    <a:lnTo>
                      <a:pt x="1358" y="1378"/>
                    </a:lnTo>
                    <a:lnTo>
                      <a:pt x="1247" y="1304"/>
                    </a:lnTo>
                    <a:lnTo>
                      <a:pt x="1153" y="1254"/>
                    </a:lnTo>
                    <a:lnTo>
                      <a:pt x="1017" y="1119"/>
                    </a:lnTo>
                    <a:lnTo>
                      <a:pt x="957" y="1021"/>
                    </a:lnTo>
                    <a:lnTo>
                      <a:pt x="966" y="947"/>
                    </a:lnTo>
                    <a:lnTo>
                      <a:pt x="1025" y="886"/>
                    </a:lnTo>
                    <a:lnTo>
                      <a:pt x="974" y="812"/>
                    </a:lnTo>
                    <a:lnTo>
                      <a:pt x="922" y="849"/>
                    </a:lnTo>
                    <a:lnTo>
                      <a:pt x="836" y="738"/>
                    </a:lnTo>
                    <a:lnTo>
                      <a:pt x="819" y="800"/>
                    </a:lnTo>
                    <a:lnTo>
                      <a:pt x="742" y="800"/>
                    </a:lnTo>
                    <a:lnTo>
                      <a:pt x="725" y="750"/>
                    </a:lnTo>
                    <a:lnTo>
                      <a:pt x="725" y="664"/>
                    </a:lnTo>
                    <a:lnTo>
                      <a:pt x="691" y="615"/>
                    </a:lnTo>
                    <a:lnTo>
                      <a:pt x="640" y="627"/>
                    </a:lnTo>
                    <a:lnTo>
                      <a:pt x="572" y="492"/>
                    </a:lnTo>
                    <a:lnTo>
                      <a:pt x="520" y="480"/>
                    </a:lnTo>
                    <a:lnTo>
                      <a:pt x="444" y="417"/>
                    </a:lnTo>
                    <a:lnTo>
                      <a:pt x="281" y="430"/>
                    </a:lnTo>
                    <a:lnTo>
                      <a:pt x="119" y="417"/>
                    </a:lnTo>
                    <a:lnTo>
                      <a:pt x="0" y="368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3800" cy="332280"/>
              </a:xfrm>
              <a:custGeom>
                <a:avLst/>
                <a:gdLst/>
                <a:ahLst/>
                <a:rect l="0" t="0" r="r" b="b"/>
                <a:pathLst>
                  <a:path w="1205" h="923">
                    <a:moveTo>
                      <a:pt x="42" y="0"/>
                    </a:moveTo>
                    <a:lnTo>
                      <a:pt x="0" y="73"/>
                    </a:lnTo>
                    <a:lnTo>
                      <a:pt x="0" y="159"/>
                    </a:lnTo>
                    <a:lnTo>
                      <a:pt x="84" y="246"/>
                    </a:lnTo>
                    <a:lnTo>
                      <a:pt x="135" y="221"/>
                    </a:lnTo>
                    <a:lnTo>
                      <a:pt x="152" y="259"/>
                    </a:lnTo>
                    <a:lnTo>
                      <a:pt x="203" y="271"/>
                    </a:lnTo>
                    <a:lnTo>
                      <a:pt x="237" y="208"/>
                    </a:lnTo>
                    <a:lnTo>
                      <a:pt x="357" y="221"/>
                    </a:lnTo>
                    <a:lnTo>
                      <a:pt x="374" y="283"/>
                    </a:lnTo>
                    <a:lnTo>
                      <a:pt x="416" y="308"/>
                    </a:lnTo>
                    <a:lnTo>
                      <a:pt x="518" y="295"/>
                    </a:lnTo>
                    <a:lnTo>
                      <a:pt x="552" y="332"/>
                    </a:lnTo>
                    <a:lnTo>
                      <a:pt x="602" y="369"/>
                    </a:lnTo>
                    <a:lnTo>
                      <a:pt x="645" y="443"/>
                    </a:lnTo>
                    <a:lnTo>
                      <a:pt x="645" y="541"/>
                    </a:lnTo>
                    <a:lnTo>
                      <a:pt x="611" y="566"/>
                    </a:lnTo>
                    <a:lnTo>
                      <a:pt x="628" y="603"/>
                    </a:lnTo>
                    <a:lnTo>
                      <a:pt x="577" y="664"/>
                    </a:lnTo>
                    <a:lnTo>
                      <a:pt x="577" y="751"/>
                    </a:lnTo>
                    <a:lnTo>
                      <a:pt x="653" y="763"/>
                    </a:lnTo>
                    <a:lnTo>
                      <a:pt x="696" y="739"/>
                    </a:lnTo>
                    <a:lnTo>
                      <a:pt x="713" y="702"/>
                    </a:lnTo>
                    <a:lnTo>
                      <a:pt x="738" y="739"/>
                    </a:lnTo>
                    <a:lnTo>
                      <a:pt x="780" y="714"/>
                    </a:lnTo>
                    <a:lnTo>
                      <a:pt x="874" y="763"/>
                    </a:lnTo>
                    <a:lnTo>
                      <a:pt x="934" y="849"/>
                    </a:lnTo>
                    <a:lnTo>
                      <a:pt x="951" y="849"/>
                    </a:lnTo>
                    <a:lnTo>
                      <a:pt x="959" y="899"/>
                    </a:lnTo>
                    <a:lnTo>
                      <a:pt x="1019" y="923"/>
                    </a:lnTo>
                    <a:lnTo>
                      <a:pt x="1087" y="923"/>
                    </a:lnTo>
                    <a:lnTo>
                      <a:pt x="1044" y="874"/>
                    </a:lnTo>
                    <a:lnTo>
                      <a:pt x="1061" y="825"/>
                    </a:lnTo>
                    <a:lnTo>
                      <a:pt x="1112" y="874"/>
                    </a:lnTo>
                    <a:lnTo>
                      <a:pt x="1171" y="886"/>
                    </a:lnTo>
                    <a:lnTo>
                      <a:pt x="1180" y="813"/>
                    </a:lnTo>
                    <a:lnTo>
                      <a:pt x="1121" y="751"/>
                    </a:lnTo>
                    <a:lnTo>
                      <a:pt x="1078" y="751"/>
                    </a:lnTo>
                    <a:lnTo>
                      <a:pt x="1019" y="689"/>
                    </a:lnTo>
                    <a:lnTo>
                      <a:pt x="1078" y="689"/>
                    </a:lnTo>
                    <a:lnTo>
                      <a:pt x="1121" y="727"/>
                    </a:lnTo>
                    <a:lnTo>
                      <a:pt x="1205" y="727"/>
                    </a:lnTo>
                    <a:lnTo>
                      <a:pt x="1188" y="652"/>
                    </a:lnTo>
                    <a:lnTo>
                      <a:pt x="1112" y="578"/>
                    </a:lnTo>
                    <a:lnTo>
                      <a:pt x="1061" y="566"/>
                    </a:lnTo>
                    <a:lnTo>
                      <a:pt x="985" y="480"/>
                    </a:lnTo>
                    <a:lnTo>
                      <a:pt x="891" y="455"/>
                    </a:lnTo>
                    <a:lnTo>
                      <a:pt x="814" y="418"/>
                    </a:lnTo>
                    <a:lnTo>
                      <a:pt x="755" y="308"/>
                    </a:lnTo>
                    <a:lnTo>
                      <a:pt x="713" y="172"/>
                    </a:lnTo>
                    <a:lnTo>
                      <a:pt x="653" y="172"/>
                    </a:lnTo>
                    <a:lnTo>
                      <a:pt x="636" y="135"/>
                    </a:lnTo>
                    <a:lnTo>
                      <a:pt x="602" y="147"/>
                    </a:lnTo>
                    <a:lnTo>
                      <a:pt x="543" y="86"/>
                    </a:lnTo>
                    <a:lnTo>
                      <a:pt x="441" y="61"/>
                    </a:lnTo>
                    <a:lnTo>
                      <a:pt x="399" y="98"/>
                    </a:lnTo>
                    <a:lnTo>
                      <a:pt x="306" y="61"/>
                    </a:lnTo>
                    <a:lnTo>
                      <a:pt x="245" y="61"/>
                    </a:lnTo>
                    <a:lnTo>
                      <a:pt x="220" y="12"/>
                    </a:lnTo>
                    <a:lnTo>
                      <a:pt x="194" y="0"/>
                    </a:lnTo>
                    <a:lnTo>
                      <a:pt x="15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8160" cy="154440"/>
              </a:xfrm>
              <a:custGeom>
                <a:avLst/>
                <a:gdLst/>
                <a:ahLst/>
                <a:rect l="0" t="0" r="r" b="b"/>
                <a:pathLst>
                  <a:path w="856" h="429">
                    <a:moveTo>
                      <a:pt x="0" y="214"/>
                    </a:moveTo>
                    <a:lnTo>
                      <a:pt x="76" y="88"/>
                    </a:lnTo>
                    <a:lnTo>
                      <a:pt x="110" y="88"/>
                    </a:lnTo>
                    <a:lnTo>
                      <a:pt x="169" y="25"/>
                    </a:lnTo>
                    <a:lnTo>
                      <a:pt x="237" y="25"/>
                    </a:lnTo>
                    <a:lnTo>
                      <a:pt x="254" y="12"/>
                    </a:lnTo>
                    <a:lnTo>
                      <a:pt x="279" y="0"/>
                    </a:lnTo>
                    <a:lnTo>
                      <a:pt x="364" y="75"/>
                    </a:lnTo>
                    <a:lnTo>
                      <a:pt x="389" y="126"/>
                    </a:lnTo>
                    <a:lnTo>
                      <a:pt x="406" y="100"/>
                    </a:lnTo>
                    <a:lnTo>
                      <a:pt x="475" y="151"/>
                    </a:lnTo>
                    <a:lnTo>
                      <a:pt x="517" y="151"/>
                    </a:lnTo>
                    <a:lnTo>
                      <a:pt x="551" y="189"/>
                    </a:lnTo>
                    <a:lnTo>
                      <a:pt x="610" y="214"/>
                    </a:lnTo>
                    <a:lnTo>
                      <a:pt x="610" y="277"/>
                    </a:lnTo>
                    <a:lnTo>
                      <a:pt x="720" y="277"/>
                    </a:lnTo>
                    <a:lnTo>
                      <a:pt x="746" y="341"/>
                    </a:lnTo>
                    <a:lnTo>
                      <a:pt x="814" y="341"/>
                    </a:lnTo>
                    <a:lnTo>
                      <a:pt x="856" y="417"/>
                    </a:lnTo>
                    <a:lnTo>
                      <a:pt x="831" y="429"/>
                    </a:lnTo>
                    <a:lnTo>
                      <a:pt x="814" y="404"/>
                    </a:lnTo>
                    <a:lnTo>
                      <a:pt x="805" y="392"/>
                    </a:lnTo>
                    <a:lnTo>
                      <a:pt x="746" y="404"/>
                    </a:lnTo>
                    <a:lnTo>
                      <a:pt x="729" y="417"/>
                    </a:lnTo>
                    <a:lnTo>
                      <a:pt x="678" y="429"/>
                    </a:lnTo>
                    <a:lnTo>
                      <a:pt x="602" y="429"/>
                    </a:lnTo>
                    <a:lnTo>
                      <a:pt x="551" y="429"/>
                    </a:lnTo>
                    <a:lnTo>
                      <a:pt x="551" y="392"/>
                    </a:lnTo>
                    <a:lnTo>
                      <a:pt x="475" y="290"/>
                    </a:lnTo>
                    <a:lnTo>
                      <a:pt x="475" y="227"/>
                    </a:lnTo>
                    <a:lnTo>
                      <a:pt x="389" y="227"/>
                    </a:lnTo>
                    <a:lnTo>
                      <a:pt x="355" y="189"/>
                    </a:lnTo>
                    <a:lnTo>
                      <a:pt x="330" y="227"/>
                    </a:lnTo>
                    <a:lnTo>
                      <a:pt x="304" y="177"/>
                    </a:lnTo>
                    <a:lnTo>
                      <a:pt x="279" y="177"/>
                    </a:lnTo>
                    <a:lnTo>
                      <a:pt x="279" y="114"/>
                    </a:lnTo>
                    <a:lnTo>
                      <a:pt x="254" y="88"/>
                    </a:lnTo>
                    <a:lnTo>
                      <a:pt x="177" y="100"/>
                    </a:lnTo>
                    <a:lnTo>
                      <a:pt x="127" y="177"/>
                    </a:lnTo>
                    <a:lnTo>
                      <a:pt x="67" y="189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3400" cy="130680"/>
              </a:xfrm>
              <a:custGeom>
                <a:avLst/>
                <a:gdLst/>
                <a:ahLst/>
                <a:rect l="0" t="0" r="r" b="b"/>
                <a:pathLst>
                  <a:path w="565" h="363">
                    <a:moveTo>
                      <a:pt x="0" y="276"/>
                    </a:moveTo>
                    <a:lnTo>
                      <a:pt x="52" y="288"/>
                    </a:lnTo>
                    <a:lnTo>
                      <a:pt x="176" y="276"/>
                    </a:lnTo>
                    <a:lnTo>
                      <a:pt x="229" y="351"/>
                    </a:lnTo>
                    <a:lnTo>
                      <a:pt x="300" y="363"/>
                    </a:lnTo>
                    <a:lnTo>
                      <a:pt x="336" y="276"/>
                    </a:lnTo>
                    <a:lnTo>
                      <a:pt x="318" y="250"/>
                    </a:lnTo>
                    <a:lnTo>
                      <a:pt x="353" y="212"/>
                    </a:lnTo>
                    <a:lnTo>
                      <a:pt x="424" y="276"/>
                    </a:lnTo>
                    <a:lnTo>
                      <a:pt x="477" y="276"/>
                    </a:lnTo>
                    <a:lnTo>
                      <a:pt x="477" y="237"/>
                    </a:lnTo>
                    <a:lnTo>
                      <a:pt x="512" y="237"/>
                    </a:lnTo>
                    <a:lnTo>
                      <a:pt x="565" y="175"/>
                    </a:lnTo>
                    <a:lnTo>
                      <a:pt x="530" y="163"/>
                    </a:lnTo>
                    <a:lnTo>
                      <a:pt x="530" y="100"/>
                    </a:lnTo>
                    <a:lnTo>
                      <a:pt x="530" y="49"/>
                    </a:lnTo>
                    <a:lnTo>
                      <a:pt x="450" y="37"/>
                    </a:lnTo>
                    <a:lnTo>
                      <a:pt x="389" y="49"/>
                    </a:lnTo>
                    <a:lnTo>
                      <a:pt x="336" y="49"/>
                    </a:lnTo>
                    <a:lnTo>
                      <a:pt x="255" y="37"/>
                    </a:lnTo>
                    <a:lnTo>
                      <a:pt x="194" y="0"/>
                    </a:lnTo>
                    <a:lnTo>
                      <a:pt x="176" y="37"/>
                    </a:lnTo>
                    <a:lnTo>
                      <a:pt x="167" y="113"/>
                    </a:lnTo>
                    <a:lnTo>
                      <a:pt x="105" y="113"/>
                    </a:lnTo>
                    <a:lnTo>
                      <a:pt x="88" y="175"/>
                    </a:lnTo>
                    <a:lnTo>
                      <a:pt x="52" y="20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1880" cy="2694240"/>
              </a:xfrm>
              <a:custGeom>
                <a:avLst/>
                <a:gdLst/>
                <a:ahLst/>
                <a:rect l="0" t="0" r="r" b="b"/>
                <a:pathLst>
                  <a:path w="3533" h="7484">
                    <a:moveTo>
                      <a:pt x="275" y="332"/>
                    </a:moveTo>
                    <a:lnTo>
                      <a:pt x="317" y="246"/>
                    </a:lnTo>
                    <a:lnTo>
                      <a:pt x="403" y="123"/>
                    </a:lnTo>
                    <a:lnTo>
                      <a:pt x="532" y="49"/>
                    </a:lnTo>
                    <a:lnTo>
                      <a:pt x="601" y="0"/>
                    </a:lnTo>
                    <a:lnTo>
                      <a:pt x="670" y="12"/>
                    </a:lnTo>
                    <a:lnTo>
                      <a:pt x="653" y="73"/>
                    </a:lnTo>
                    <a:lnTo>
                      <a:pt x="575" y="135"/>
                    </a:lnTo>
                    <a:lnTo>
                      <a:pt x="558" y="258"/>
                    </a:lnTo>
                    <a:lnTo>
                      <a:pt x="575" y="356"/>
                    </a:lnTo>
                    <a:lnTo>
                      <a:pt x="644" y="356"/>
                    </a:lnTo>
                    <a:lnTo>
                      <a:pt x="670" y="246"/>
                    </a:lnTo>
                    <a:lnTo>
                      <a:pt x="687" y="135"/>
                    </a:lnTo>
                    <a:lnTo>
                      <a:pt x="730" y="172"/>
                    </a:lnTo>
                    <a:lnTo>
                      <a:pt x="782" y="233"/>
                    </a:lnTo>
                    <a:lnTo>
                      <a:pt x="868" y="209"/>
                    </a:lnTo>
                    <a:lnTo>
                      <a:pt x="919" y="258"/>
                    </a:lnTo>
                    <a:lnTo>
                      <a:pt x="936" y="320"/>
                    </a:lnTo>
                    <a:lnTo>
                      <a:pt x="1065" y="295"/>
                    </a:lnTo>
                    <a:lnTo>
                      <a:pt x="1323" y="258"/>
                    </a:lnTo>
                    <a:lnTo>
                      <a:pt x="1418" y="455"/>
                    </a:lnTo>
                    <a:lnTo>
                      <a:pt x="1581" y="553"/>
                    </a:lnTo>
                    <a:lnTo>
                      <a:pt x="1572" y="640"/>
                    </a:lnTo>
                    <a:lnTo>
                      <a:pt x="1641" y="590"/>
                    </a:lnTo>
                    <a:lnTo>
                      <a:pt x="1718" y="590"/>
                    </a:lnTo>
                    <a:lnTo>
                      <a:pt x="1814" y="676"/>
                    </a:lnTo>
                    <a:lnTo>
                      <a:pt x="1926" y="664"/>
                    </a:lnTo>
                    <a:lnTo>
                      <a:pt x="2020" y="676"/>
                    </a:lnTo>
                    <a:lnTo>
                      <a:pt x="2175" y="836"/>
                    </a:lnTo>
                    <a:lnTo>
                      <a:pt x="2338" y="1033"/>
                    </a:lnTo>
                    <a:lnTo>
                      <a:pt x="2407" y="1255"/>
                    </a:lnTo>
                    <a:lnTo>
                      <a:pt x="2364" y="1427"/>
                    </a:lnTo>
                    <a:lnTo>
                      <a:pt x="2562" y="1489"/>
                    </a:lnTo>
                    <a:lnTo>
                      <a:pt x="2888" y="1575"/>
                    </a:lnTo>
                    <a:lnTo>
                      <a:pt x="3223" y="1673"/>
                    </a:lnTo>
                    <a:lnTo>
                      <a:pt x="3438" y="1870"/>
                    </a:lnTo>
                    <a:lnTo>
                      <a:pt x="3533" y="2055"/>
                    </a:lnTo>
                    <a:lnTo>
                      <a:pt x="3533" y="2289"/>
                    </a:lnTo>
                    <a:lnTo>
                      <a:pt x="3447" y="2498"/>
                    </a:lnTo>
                    <a:lnTo>
                      <a:pt x="3352" y="2609"/>
                    </a:lnTo>
                    <a:lnTo>
                      <a:pt x="3292" y="2683"/>
                    </a:lnTo>
                    <a:lnTo>
                      <a:pt x="3223" y="2830"/>
                    </a:lnTo>
                    <a:lnTo>
                      <a:pt x="3215" y="2966"/>
                    </a:lnTo>
                    <a:lnTo>
                      <a:pt x="3223" y="3138"/>
                    </a:lnTo>
                    <a:lnTo>
                      <a:pt x="3189" y="3310"/>
                    </a:lnTo>
                    <a:lnTo>
                      <a:pt x="3137" y="3347"/>
                    </a:lnTo>
                    <a:lnTo>
                      <a:pt x="3120" y="3446"/>
                    </a:lnTo>
                    <a:lnTo>
                      <a:pt x="3060" y="3520"/>
                    </a:lnTo>
                    <a:lnTo>
                      <a:pt x="3051" y="3606"/>
                    </a:lnTo>
                    <a:lnTo>
                      <a:pt x="2974" y="3704"/>
                    </a:lnTo>
                    <a:lnTo>
                      <a:pt x="2854" y="3878"/>
                    </a:lnTo>
                    <a:lnTo>
                      <a:pt x="2751" y="3927"/>
                    </a:lnTo>
                    <a:lnTo>
                      <a:pt x="2682" y="3914"/>
                    </a:lnTo>
                    <a:lnTo>
                      <a:pt x="2553" y="4001"/>
                    </a:lnTo>
                    <a:lnTo>
                      <a:pt x="2424" y="4198"/>
                    </a:lnTo>
                    <a:lnTo>
                      <a:pt x="2398" y="4271"/>
                    </a:lnTo>
                    <a:lnTo>
                      <a:pt x="2398" y="4370"/>
                    </a:lnTo>
                    <a:lnTo>
                      <a:pt x="2424" y="4481"/>
                    </a:lnTo>
                    <a:lnTo>
                      <a:pt x="2364" y="4591"/>
                    </a:lnTo>
                    <a:lnTo>
                      <a:pt x="2364" y="4678"/>
                    </a:lnTo>
                    <a:lnTo>
                      <a:pt x="2261" y="4776"/>
                    </a:lnTo>
                    <a:lnTo>
                      <a:pt x="2183" y="4850"/>
                    </a:lnTo>
                    <a:lnTo>
                      <a:pt x="2123" y="4961"/>
                    </a:lnTo>
                    <a:lnTo>
                      <a:pt x="2097" y="5071"/>
                    </a:lnTo>
                    <a:lnTo>
                      <a:pt x="2012" y="5207"/>
                    </a:lnTo>
                    <a:lnTo>
                      <a:pt x="1977" y="5182"/>
                    </a:lnTo>
                    <a:lnTo>
                      <a:pt x="1908" y="5182"/>
                    </a:lnTo>
                    <a:lnTo>
                      <a:pt x="1822" y="5231"/>
                    </a:lnTo>
                    <a:lnTo>
                      <a:pt x="1883" y="5293"/>
                    </a:lnTo>
                    <a:lnTo>
                      <a:pt x="1883" y="5416"/>
                    </a:lnTo>
                    <a:lnTo>
                      <a:pt x="1874" y="5515"/>
                    </a:lnTo>
                    <a:lnTo>
                      <a:pt x="1831" y="5588"/>
                    </a:lnTo>
                    <a:lnTo>
                      <a:pt x="1718" y="5601"/>
                    </a:lnTo>
                    <a:lnTo>
                      <a:pt x="1632" y="5638"/>
                    </a:lnTo>
                    <a:lnTo>
                      <a:pt x="1589" y="5711"/>
                    </a:lnTo>
                    <a:lnTo>
                      <a:pt x="1589" y="5835"/>
                    </a:lnTo>
                    <a:lnTo>
                      <a:pt x="1486" y="5847"/>
                    </a:lnTo>
                    <a:lnTo>
                      <a:pt x="1400" y="5835"/>
                    </a:lnTo>
                    <a:lnTo>
                      <a:pt x="1375" y="5884"/>
                    </a:lnTo>
                    <a:lnTo>
                      <a:pt x="1418" y="5933"/>
                    </a:lnTo>
                    <a:lnTo>
                      <a:pt x="1392" y="6118"/>
                    </a:lnTo>
                    <a:lnTo>
                      <a:pt x="1357" y="6278"/>
                    </a:lnTo>
                    <a:lnTo>
                      <a:pt x="1246" y="6278"/>
                    </a:lnTo>
                    <a:lnTo>
                      <a:pt x="1211" y="6339"/>
                    </a:lnTo>
                    <a:lnTo>
                      <a:pt x="1220" y="6462"/>
                    </a:lnTo>
                    <a:lnTo>
                      <a:pt x="1280" y="6462"/>
                    </a:lnTo>
                    <a:lnTo>
                      <a:pt x="1323" y="6536"/>
                    </a:lnTo>
                    <a:lnTo>
                      <a:pt x="1297" y="6659"/>
                    </a:lnTo>
                    <a:lnTo>
                      <a:pt x="1237" y="6671"/>
                    </a:lnTo>
                    <a:lnTo>
                      <a:pt x="1143" y="6721"/>
                    </a:lnTo>
                    <a:lnTo>
                      <a:pt x="1117" y="6819"/>
                    </a:lnTo>
                    <a:lnTo>
                      <a:pt x="1108" y="6967"/>
                    </a:lnTo>
                    <a:lnTo>
                      <a:pt x="1048" y="7041"/>
                    </a:lnTo>
                    <a:lnTo>
                      <a:pt x="1263" y="7287"/>
                    </a:lnTo>
                    <a:lnTo>
                      <a:pt x="1323" y="7410"/>
                    </a:lnTo>
                    <a:lnTo>
                      <a:pt x="1289" y="7484"/>
                    </a:lnTo>
                    <a:lnTo>
                      <a:pt x="1194" y="7435"/>
                    </a:lnTo>
                    <a:lnTo>
                      <a:pt x="1117" y="7336"/>
                    </a:lnTo>
                    <a:lnTo>
                      <a:pt x="1005" y="7262"/>
                    </a:lnTo>
                    <a:lnTo>
                      <a:pt x="902" y="7139"/>
                    </a:lnTo>
                    <a:lnTo>
                      <a:pt x="833" y="6991"/>
                    </a:lnTo>
                    <a:lnTo>
                      <a:pt x="825" y="6868"/>
                    </a:lnTo>
                    <a:lnTo>
                      <a:pt x="842" y="6770"/>
                    </a:lnTo>
                    <a:lnTo>
                      <a:pt x="833" y="5970"/>
                    </a:lnTo>
                    <a:lnTo>
                      <a:pt x="807" y="5835"/>
                    </a:lnTo>
                    <a:lnTo>
                      <a:pt x="730" y="5687"/>
                    </a:lnTo>
                    <a:lnTo>
                      <a:pt x="730" y="5551"/>
                    </a:lnTo>
                    <a:lnTo>
                      <a:pt x="782" y="5391"/>
                    </a:lnTo>
                    <a:lnTo>
                      <a:pt x="825" y="5195"/>
                    </a:lnTo>
                    <a:lnTo>
                      <a:pt x="807" y="4998"/>
                    </a:lnTo>
                    <a:lnTo>
                      <a:pt x="799" y="4911"/>
                    </a:lnTo>
                    <a:lnTo>
                      <a:pt x="790" y="4801"/>
                    </a:lnTo>
                    <a:lnTo>
                      <a:pt x="816" y="4751"/>
                    </a:lnTo>
                    <a:lnTo>
                      <a:pt x="833" y="4530"/>
                    </a:lnTo>
                    <a:lnTo>
                      <a:pt x="816" y="4419"/>
                    </a:lnTo>
                    <a:lnTo>
                      <a:pt x="850" y="4148"/>
                    </a:lnTo>
                    <a:lnTo>
                      <a:pt x="816" y="3914"/>
                    </a:lnTo>
                    <a:lnTo>
                      <a:pt x="842" y="3791"/>
                    </a:lnTo>
                    <a:lnTo>
                      <a:pt x="885" y="3557"/>
                    </a:lnTo>
                    <a:lnTo>
                      <a:pt x="842" y="3409"/>
                    </a:lnTo>
                    <a:lnTo>
                      <a:pt x="756" y="3298"/>
                    </a:lnTo>
                    <a:lnTo>
                      <a:pt x="730" y="3175"/>
                    </a:lnTo>
                    <a:lnTo>
                      <a:pt x="635" y="3064"/>
                    </a:lnTo>
                    <a:lnTo>
                      <a:pt x="532" y="2990"/>
                    </a:lnTo>
                    <a:lnTo>
                      <a:pt x="386" y="2953"/>
                    </a:lnTo>
                    <a:lnTo>
                      <a:pt x="317" y="2793"/>
                    </a:lnTo>
                    <a:lnTo>
                      <a:pt x="223" y="2633"/>
                    </a:lnTo>
                    <a:lnTo>
                      <a:pt x="214" y="2498"/>
                    </a:lnTo>
                    <a:lnTo>
                      <a:pt x="206" y="2375"/>
                    </a:lnTo>
                    <a:lnTo>
                      <a:pt x="180" y="2289"/>
                    </a:lnTo>
                    <a:lnTo>
                      <a:pt x="128" y="2190"/>
                    </a:lnTo>
                    <a:lnTo>
                      <a:pt x="60" y="2141"/>
                    </a:lnTo>
                    <a:lnTo>
                      <a:pt x="8" y="2043"/>
                    </a:lnTo>
                    <a:lnTo>
                      <a:pt x="68" y="1956"/>
                    </a:lnTo>
                    <a:lnTo>
                      <a:pt x="68" y="1747"/>
                    </a:lnTo>
                    <a:lnTo>
                      <a:pt x="34" y="1636"/>
                    </a:lnTo>
                    <a:lnTo>
                      <a:pt x="0" y="1526"/>
                    </a:lnTo>
                    <a:lnTo>
                      <a:pt x="34" y="1366"/>
                    </a:lnTo>
                    <a:lnTo>
                      <a:pt x="171" y="972"/>
                    </a:lnTo>
                    <a:lnTo>
                      <a:pt x="180" y="800"/>
                    </a:lnTo>
                    <a:lnTo>
                      <a:pt x="257" y="615"/>
                    </a:lnTo>
                    <a:lnTo>
                      <a:pt x="257" y="516"/>
                    </a:lnTo>
                    <a:lnTo>
                      <a:pt x="275" y="332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"/>
          <p:cNvSpPr txBox="1"/>
          <p:nvPr/>
        </p:nvSpPr>
        <p:spPr>
          <a:xfrm>
            <a:off x="90360" y="648504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Confid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5A859F6C-93E4-4F18-93D2-58C94768B16B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8691480" y="648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C57EB825-A1D9-4696-87DD-D756F3990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6360" y="-33480"/>
            <a:ext cx="9128160" cy="6834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0" y="5486400"/>
            <a:ext cx="4495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5/15/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b Server (con’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 contr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i "permission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ophe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text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mplementation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hink a flowcahrt would be goo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so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Lo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6212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merging Security Techn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-HTTP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SL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T Commerce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pe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lone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j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application auth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Technologies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ackup Sl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atapult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59280" y="2360520"/>
            <a:ext cx="0" cy="919080"/>
          </a:xfrm>
          <a:prstGeom prst="line">
            <a:avLst/>
          </a:prstGeom>
          <a:ln w="38160">
            <a:solidFill>
              <a:srgbClr val="0000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3680" y="3297240"/>
            <a:ext cx="6211800" cy="22320"/>
          </a:xfrm>
          <a:prstGeom prst="line">
            <a:avLst/>
          </a:prstGeom>
          <a:ln w="38160">
            <a:solidFill>
              <a:srgbClr val="0000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1800"/>
            <a:ext cx="0" cy="501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4741920"/>
            <a:ext cx="2987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87440" y="4884840"/>
            <a:ext cx="23223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, Gopher,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4148280"/>
            <a:ext cx="7174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397640" y="3365640"/>
            <a:ext cx="165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743880" y="968400"/>
            <a:ext cx="2379600" cy="789120"/>
            <a:chOff x="6743880" y="968400"/>
            <a:chExt cx="2379600" cy="789120"/>
          </a:xfrm>
        </p:grpSpPr>
        <p:sp>
          <p:nvSpPr>
            <p:cNvPr id="129" name=""/>
            <p:cNvSpPr/>
            <p:nvPr/>
          </p:nvSpPr>
          <p:spPr>
            <a:xfrm>
              <a:off x="7008840" y="968400"/>
              <a:ext cx="1800360" cy="78912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6743880" y="1014480"/>
              <a:ext cx="23796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035840" y="1797120"/>
            <a:ext cx="1722600" cy="563400"/>
            <a:chOff x="7035840" y="1797120"/>
            <a:chExt cx="1722600" cy="563400"/>
          </a:xfrm>
        </p:grpSpPr>
        <p:sp>
          <p:nvSpPr>
            <p:cNvPr id="132" name=""/>
            <p:cNvSpPr/>
            <p:nvPr/>
          </p:nvSpPr>
          <p:spPr>
            <a:xfrm>
              <a:off x="7035840" y="179712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7264440" y="189396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4920" y="1913040"/>
            <a:ext cx="4100400" cy="1965240"/>
          </a:xfrm>
          <a:prstGeom prst="roundRect">
            <a:avLst/>
          </a:prstGeom>
          <a:gradFill rotWithShape="0">
            <a:gsLst>
              <a:gs pos="0">
                <a:srgbClr val="1f4300"/>
              </a:gs>
              <a:gs pos="100000">
                <a:srgbClr val="4b683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76480" y="2238480"/>
            <a:ext cx="17193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p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09600" y="3056040"/>
            <a:ext cx="1722600" cy="563400"/>
            <a:chOff x="309600" y="3056040"/>
            <a:chExt cx="1722600" cy="563400"/>
          </a:xfrm>
        </p:grpSpPr>
        <p:sp>
          <p:nvSpPr>
            <p:cNvPr id="137" name=""/>
            <p:cNvSpPr/>
            <p:nvPr/>
          </p:nvSpPr>
          <p:spPr>
            <a:xfrm>
              <a:off x="309600" y="305604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538200" y="315288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198520" y="304308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676767"/>
              </a:gs>
              <a:gs pos="50000">
                <a:srgbClr val="1e1e1e"/>
              </a:gs>
              <a:gs pos="100000">
                <a:srgbClr val="676767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382840" y="3125880"/>
            <a:ext cx="1488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5840" y="4394160"/>
            <a:ext cx="610092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38760" y="540540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664080" y="5484960"/>
            <a:ext cx="237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02120" y="479592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230720" y="489276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447920" y="4397400"/>
            <a:ext cx="0" cy="324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38400" y="3619440"/>
            <a:ext cx="0" cy="777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32600" y="2360520"/>
            <a:ext cx="0" cy="919080"/>
          </a:xfrm>
          <a:prstGeom prst="line">
            <a:avLst/>
          </a:prstGeom>
          <a:ln w="38160">
            <a:solidFill>
              <a:srgbClr val="0000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1200" y="4079880"/>
            <a:ext cx="83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896080" y="2917800"/>
            <a:ext cx="2001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RPC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78520" y="96516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038560" y="1055520"/>
            <a:ext cx="1879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N Proxy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29280" y="220500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18280" y="228132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08400" y="1784520"/>
            <a:ext cx="1706400" cy="35388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264280" y="178272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Pr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mallProx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QL Gate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0200" y="960480"/>
            <a:ext cx="1197360" cy="441720"/>
          </a:xfrm>
          <a:custGeom>
            <a:avLst/>
            <a:gdLst/>
            <a:ahLst/>
            <a:rect l="0" t="0" r="r" b="b"/>
            <a:pathLst>
              <a:path w="3326" h="1227">
                <a:moveTo>
                  <a:pt x="0" y="409"/>
                </a:moveTo>
                <a:lnTo>
                  <a:pt x="0" y="817"/>
                </a:lnTo>
                <a:lnTo>
                  <a:pt x="2328" y="817"/>
                </a:lnTo>
                <a:lnTo>
                  <a:pt x="2328" y="1227"/>
                </a:lnTo>
                <a:lnTo>
                  <a:pt x="3326" y="613"/>
                </a:lnTo>
                <a:lnTo>
                  <a:pt x="2328" y="0"/>
                </a:lnTo>
                <a:lnTo>
                  <a:pt x="2328" y="409"/>
                </a:lnTo>
                <a:lnTo>
                  <a:pt x="0" y="409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61000" y="1401840"/>
            <a:ext cx="1122840" cy="479880"/>
          </a:xfrm>
          <a:custGeom>
            <a:avLst/>
            <a:gdLst/>
            <a:ahLst/>
            <a:rect l="0" t="0" r="r" b="b"/>
            <a:pathLst>
              <a:path w="3119" h="1333">
                <a:moveTo>
                  <a:pt x="0" y="444"/>
                </a:moveTo>
                <a:lnTo>
                  <a:pt x="0" y="887"/>
                </a:lnTo>
                <a:lnTo>
                  <a:pt x="2183" y="887"/>
                </a:lnTo>
                <a:lnTo>
                  <a:pt x="2183" y="1333"/>
                </a:lnTo>
                <a:lnTo>
                  <a:pt x="3119" y="666"/>
                </a:lnTo>
                <a:lnTo>
                  <a:pt x="2183" y="0"/>
                </a:lnTo>
                <a:lnTo>
                  <a:pt x="2183" y="444"/>
                </a:lnTo>
                <a:lnTo>
                  <a:pt x="0" y="4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12200" y="2705040"/>
            <a:ext cx="381240" cy="541800"/>
          </a:xfrm>
          <a:custGeom>
            <a:avLst/>
            <a:gdLst/>
            <a:ahLst/>
            <a:rect l="0" t="0" r="r" b="b"/>
            <a:pathLst>
              <a:path w="1059" h="1505">
                <a:moveTo>
                  <a:pt x="352" y="0"/>
                </a:moveTo>
                <a:lnTo>
                  <a:pt x="705" y="0"/>
                </a:lnTo>
                <a:lnTo>
                  <a:pt x="705" y="1053"/>
                </a:lnTo>
                <a:lnTo>
                  <a:pt x="1059" y="1053"/>
                </a:lnTo>
                <a:lnTo>
                  <a:pt x="530" y="1505"/>
                </a:lnTo>
                <a:lnTo>
                  <a:pt x="0" y="1053"/>
                </a:lnTo>
                <a:lnTo>
                  <a:pt x="352" y="1053"/>
                </a:lnTo>
                <a:lnTo>
                  <a:pt x="352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38960" y="5807160"/>
            <a:ext cx="754560" cy="473400"/>
          </a:xfrm>
          <a:custGeom>
            <a:avLst/>
            <a:gdLst/>
            <a:ahLst/>
            <a:rect l="0" t="0" r="r" b="b"/>
            <a:pathLst>
              <a:path w="2096" h="1315">
                <a:moveTo>
                  <a:pt x="2096" y="437"/>
                </a:moveTo>
                <a:lnTo>
                  <a:pt x="2096" y="876"/>
                </a:lnTo>
                <a:lnTo>
                  <a:pt x="629" y="876"/>
                </a:lnTo>
                <a:lnTo>
                  <a:pt x="629" y="1315"/>
                </a:lnTo>
                <a:lnTo>
                  <a:pt x="0" y="658"/>
                </a:lnTo>
                <a:lnTo>
                  <a:pt x="629" y="0"/>
                </a:lnTo>
                <a:lnTo>
                  <a:pt x="629" y="437"/>
                </a:lnTo>
                <a:lnTo>
                  <a:pt x="2096" y="437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86720" y="5297400"/>
            <a:ext cx="557640" cy="381240"/>
          </a:xfrm>
          <a:custGeom>
            <a:avLst/>
            <a:gdLst/>
            <a:ahLst/>
            <a:rect l="0" t="0" r="r" b="b"/>
            <a:pathLst>
              <a:path w="1549" h="1059">
                <a:moveTo>
                  <a:pt x="0" y="352"/>
                </a:moveTo>
                <a:lnTo>
                  <a:pt x="0" y="705"/>
                </a:lnTo>
                <a:lnTo>
                  <a:pt x="1084" y="705"/>
                </a:lnTo>
                <a:lnTo>
                  <a:pt x="1084" y="1059"/>
                </a:lnTo>
                <a:lnTo>
                  <a:pt x="1549" y="530"/>
                </a:lnTo>
                <a:lnTo>
                  <a:pt x="1084" y="0"/>
                </a:lnTo>
                <a:lnTo>
                  <a:pt x="1084" y="352"/>
                </a:lnTo>
                <a:lnTo>
                  <a:pt x="0" y="352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04920" y="5896080"/>
            <a:ext cx="686160" cy="408240"/>
          </a:xfrm>
          <a:custGeom>
            <a:avLst/>
            <a:gdLst/>
            <a:ahLst/>
            <a:rect l="0" t="0" r="r" b="b"/>
            <a:pathLst>
              <a:path w="1906" h="1134">
                <a:moveTo>
                  <a:pt x="1906" y="377"/>
                </a:moveTo>
                <a:lnTo>
                  <a:pt x="1906" y="755"/>
                </a:lnTo>
                <a:lnTo>
                  <a:pt x="571" y="755"/>
                </a:lnTo>
                <a:lnTo>
                  <a:pt x="571" y="1134"/>
                </a:lnTo>
                <a:lnTo>
                  <a:pt x="0" y="566"/>
                </a:lnTo>
                <a:lnTo>
                  <a:pt x="571" y="0"/>
                </a:lnTo>
                <a:lnTo>
                  <a:pt x="571" y="377"/>
                </a:lnTo>
                <a:lnTo>
                  <a:pt x="1906" y="377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7080" y="5253120"/>
            <a:ext cx="663840" cy="390960"/>
          </a:xfrm>
          <a:custGeom>
            <a:avLst/>
            <a:gdLst/>
            <a:ahLst/>
            <a:rect l="0" t="0" r="r" b="b"/>
            <a:pathLst>
              <a:path w="1844" h="1086">
                <a:moveTo>
                  <a:pt x="0" y="362"/>
                </a:moveTo>
                <a:lnTo>
                  <a:pt x="0" y="723"/>
                </a:lnTo>
                <a:lnTo>
                  <a:pt x="1291" y="723"/>
                </a:lnTo>
                <a:lnTo>
                  <a:pt x="1291" y="1086"/>
                </a:lnTo>
                <a:lnTo>
                  <a:pt x="1844" y="543"/>
                </a:lnTo>
                <a:lnTo>
                  <a:pt x="1291" y="0"/>
                </a:lnTo>
                <a:lnTo>
                  <a:pt x="1291" y="362"/>
                </a:lnTo>
                <a:lnTo>
                  <a:pt x="0" y="362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8840" y="861840"/>
            <a:ext cx="2644920" cy="1596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6040" y="3468600"/>
            <a:ext cx="2868480" cy="1646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6502320" y="3978360"/>
            <a:ext cx="2556000" cy="126216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traid. wd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Datasource: NTRa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Username: JAllar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Template: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:\webtemp\pages\queries\bugs.h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tatement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ELECT * FR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bug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WHERE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Assign = '%Assign%'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ORDER by %table%.Priority, %table%.Severit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33560" y="5081760"/>
            <a:ext cx="3514680" cy="14749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gs.h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title&gt;NT Raid bugs assigned to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Assign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titl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2&gt;NT Raid bugs assigned to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Assign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:&lt;/H2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BeginDetail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&gt;&lt;A HREF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/scripts/httpodbc.dll/queries/bugdet.wdg?BugNum=&lt;%BugNum%&gt; 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"&gt;Bug #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BugNum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A&gt;&lt;/b&gt;  Priority: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Priority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 Severity: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Severity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Title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EndDetail%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398600" y="1476360"/>
            <a:ext cx="2830680" cy="15811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traid.ht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tml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title&gt;Gibraltar Web/SQL Demo&lt;/titl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1&gt;NTRaid Database Query&lt;/h1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form METHOD="POST" ACTION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/scripts/httpodbc.dll/queries/ntraid.wdg"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E-Mail Name: &lt;input text name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Assign"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ize=36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P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input type="submit" value="Do Query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html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45120" y="1049400"/>
            <a:ext cx="256068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tandard HTML form specifies query file (.wdg) and gateway (HTTPODBC.DLL), variabl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d to the end of  the UR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42160" y="2003400"/>
            <a:ext cx="191916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Query received by HTTP server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ed via  environment to HTTPODBC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964200" y="3252960"/>
            <a:ext cx="168444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HTTPODBC.DLL issues statment from ntraid.wdg to specified data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286760" y="5715000"/>
            <a:ext cx="168444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Results from query merged with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gs.ht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mplate to generate HTML “re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55640" y="5802480"/>
            <a:ext cx="160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HTML passed back to Web client from HTTP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ublishing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85840" y="1068480"/>
            <a:ext cx="7040520" cy="4118040"/>
          </a:xfrm>
          <a:prstGeom prst="roundRect">
            <a:avLst/>
          </a:prstGeom>
          <a:gradFill rotWithShape="0">
            <a:gsLst>
              <a:gs pos="0">
                <a:srgbClr val="bdbdbd"/>
              </a:gs>
              <a:gs pos="50000">
                <a:srgbClr val="919191"/>
              </a:gs>
              <a:gs pos="100000">
                <a:srgbClr val="bdbdbd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7056360" y="2046240"/>
            <a:ext cx="1409760" cy="56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294600" y="2062080"/>
            <a:ext cx="0" cy="496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549680" y="2038320"/>
            <a:ext cx="601920" cy="43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99440" y="3227400"/>
            <a:ext cx="39600" cy="22147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6365880" y="3214800"/>
            <a:ext cx="1874880" cy="22190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184720" y="3171960"/>
            <a:ext cx="2924280" cy="22366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167440" y="5076720"/>
            <a:ext cx="347400" cy="8287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959280" y="5076720"/>
            <a:ext cx="190440" cy="4888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13000" y="3068640"/>
            <a:ext cx="64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13000" y="2625840"/>
            <a:ext cx="65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533600" y="2087640"/>
            <a:ext cx="693720" cy="1238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73440" y="2284560"/>
            <a:ext cx="0" cy="126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016520" y="5076720"/>
            <a:ext cx="1035000" cy="4730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360" y="5573880"/>
            <a:ext cx="1724040" cy="3160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04280" y="5376960"/>
            <a:ext cx="1357200" cy="7034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9920" y="1177920"/>
            <a:ext cx="3338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73800" y="1346040"/>
            <a:ext cx="1336680" cy="6094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53160" y="141444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17600" y="189396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28576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98520" y="24112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56160" y="375300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11360" y="3930480"/>
            <a:ext cx="2378160" cy="81612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86440" y="147780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52920" y="149076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124160" y="1440000"/>
            <a:ext cx="245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445080" y="1363680"/>
            <a:ext cx="103680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705800" y="5465880"/>
            <a:ext cx="1228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678800" y="4433760"/>
            <a:ext cx="60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62360" y="4370400"/>
            <a:ext cx="17035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60840" y="3147840"/>
            <a:ext cx="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475000" y="2900520"/>
            <a:ext cx="56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495520" y="2444760"/>
            <a:ext cx="55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78000" y="1938240"/>
            <a:ext cx="1239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BC G/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743120"/>
            <a:ext cx="1638360" cy="990720"/>
          </a:xfrm>
          <a:prstGeom prst="ellipse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90440" y="1995480"/>
            <a:ext cx="130176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Serv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, Oracl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414520" y="1147680"/>
            <a:ext cx="1187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721480" y="2470320"/>
            <a:ext cx="1360440" cy="744480"/>
            <a:chOff x="5721480" y="2470320"/>
            <a:chExt cx="1360440" cy="744480"/>
          </a:xfrm>
        </p:grpSpPr>
        <p:sp>
          <p:nvSpPr>
            <p:cNvPr id="217" name=""/>
            <p:cNvSpPr/>
            <p:nvPr/>
          </p:nvSpPr>
          <p:spPr>
            <a:xfrm>
              <a:off x="572148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5783400" y="2593800"/>
              <a:ext cx="12762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op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612200" y="2470320"/>
            <a:ext cx="1360440" cy="744480"/>
            <a:chOff x="7612200" y="2470320"/>
            <a:chExt cx="1360440" cy="744480"/>
          </a:xfrm>
        </p:grpSpPr>
        <p:sp>
          <p:nvSpPr>
            <p:cNvPr id="220" name=""/>
            <p:cNvSpPr/>
            <p:nvPr/>
          </p:nvSpPr>
          <p:spPr>
            <a:xfrm>
              <a:off x="761220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7878600" y="2593800"/>
              <a:ext cx="87948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862440" y="2463840"/>
            <a:ext cx="1360440" cy="744480"/>
            <a:chOff x="3862440" y="2463840"/>
            <a:chExt cx="1360440" cy="744480"/>
          </a:xfrm>
        </p:grpSpPr>
        <p:sp>
          <p:nvSpPr>
            <p:cNvPr id="223" name=""/>
            <p:cNvSpPr/>
            <p:nvPr/>
          </p:nvSpPr>
          <p:spPr>
            <a:xfrm>
              <a:off x="3862440" y="246384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3921120" y="2565360"/>
              <a:ext cx="12193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992400" y="340992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181400" y="3452760"/>
            <a:ext cx="747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954600" y="4022640"/>
            <a:ext cx="1324080" cy="295200"/>
            <a:chOff x="3954600" y="4022640"/>
            <a:chExt cx="1324080" cy="295200"/>
          </a:xfrm>
        </p:grpSpPr>
        <p:sp>
          <p:nvSpPr>
            <p:cNvPr id="228" name=""/>
            <p:cNvSpPr/>
            <p:nvPr/>
          </p:nvSpPr>
          <p:spPr>
            <a:xfrm>
              <a:off x="3956040" y="4022640"/>
              <a:ext cx="1204920" cy="29520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3954600" y="4032360"/>
              <a:ext cx="132408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mitF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737240" y="480384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759200" y="4827600"/>
            <a:ext cx="766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/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54440" y="479736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719520" y="4821120"/>
            <a:ext cx="8762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X/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97360" y="591012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73320" y="5524560"/>
            <a:ext cx="903240" cy="3398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67200" y="5572080"/>
            <a:ext cx="874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in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335320" y="594216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13360" y="590544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359240" y="592920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306440" y="5748480"/>
            <a:ext cx="441360" cy="14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1680" y="5627520"/>
            <a:ext cx="1246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bound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47640" y="1851120"/>
            <a:ext cx="62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751120" y="323208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946160" y="3359160"/>
            <a:ext cx="162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ch, Perl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atapult Roll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catapult pilot to ~180 users -  networking dev, test and progra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atapult server managed by test group (486/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load ~15 users, 40%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10 bugs discovered and f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to open to all of NT group 5/15, BSD by 6/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ug Cou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14800" y="2057400"/>
            <a:ext cx="3124080" cy="21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sues (PM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: 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this month: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this month: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62120" y="2057400"/>
            <a:ext cx="3200400" cy="21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: 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this month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this month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0" y="5334120"/>
            <a:ext cx="365760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component spl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atapult Secu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proxy - no packets passed directly between organization client and externa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user policy control - administrator can specify access level (e.g., ftp read, web, etc..) for each user based on domain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N proxy support - current POR is to map to single domain user (configur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/host filters - permits administrator to restrict (or permit) access to only specified sites or domains.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: *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: www.playbo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DBC Gateway Secu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ies (.wdg files) permit the expression of datasource username and password in cleartext on a per-query basis. These will default to NULL if not spec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Mosaic 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and MD5 user authentication packages included (uuencod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virus checking of .exe’s, .zip’s, etc. on dow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pplication authentication at Catapul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ver use of wininet.dll could permit malicious user to “write” without access (e.g., passing .c files using ftp “read” commands like NL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opportunity for client application license violation (e.g., NetScape) within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ly disabl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cape.ex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in campus pilot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inet.d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min Tool Secur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up will create a new group - “Internet Users” which will initially contain local administrators, but permit modification of administrative rights with User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ver authenticated RPC - IP, IPX or NamedP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b 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d5, ssl, s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, uuencode,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s (enables sht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ggable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. Allard</dc:creator>
  <dc:description/>
  <dc:language>en-US</dc:language>
  <cp:lastModifiedBy>bill gates</cp:lastModifiedBy>
  <cp:revision>0</cp:revision>
  <dc:subject/>
  <dc:title>Gibraltar Review 5/10</dc:title>
</cp:coreProperties>
</file>