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7D2F58-F7A8-42B9-9DED-E7E4CA1BA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373E043-F5A9-44EA-A6D2-E59ED50FBCF2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 on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636560" y="460440"/>
            <a:ext cx="61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16 bit non-PM A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16bit OS2 1.X , non-PM (VIO) apps, inside a character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can run: WORD5.5, Paradox, Rbase, PWB,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03400" y="460440"/>
            <a:ext cx="7947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PM in a separate screen gro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62040" y="1514520"/>
            <a:ext cx="609588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Frame for PM applications' - not a system of it's own - no separate PM file manager, print manager, control panel etc. Support 16bit and 32bit clean PM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Clipboard, DDE between PM apps and Windows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that can run: PM-WORD, PM-EXCEL, 123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636560" y="460440"/>
            <a:ext cx="6627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PM/WIN share the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6080" y="1895400"/>
            <a:ext cx="60958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and Windows app sharing the glass and communicating with each other. Clean PM apps unmodified (bin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865160" y="460440"/>
            <a:ext cx="5405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66680" y="1587600"/>
            <a:ext cx="8128080" cy="33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code complete. See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to be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LS+DBCS, map on Uni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LM support (NetBios, Mailslot, NetA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 mapping to Win/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 100% of the relevant os/2 1.21 componen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434960"/>
            <a:ext cx="7442280" cy="66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level design is d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Win32 GDI/USER and NT kernel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PM "takeover" by hot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role-over of development staff April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 16b PM code to be "cleaner" (CLI, IO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hooks with WIN32 for clean stwi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private base API to support load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b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nfiguration APIs (os2sys.ini, os2.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with Spooler,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739880"/>
            <a:ext cx="7647120" cy="45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 no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nd implement hooks to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WIN on top of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mplement PM frame windows as WIN32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DE, Clipboard, metafile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rom Win/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/INPUT hoo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ze PM-flav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, pass input to PM fo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manager to include PM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tatement of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corporate customers developing OS/2 and PM applications to run those applications under WIN32/NT, in the same screen group as native WIN32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so by only placing 'reasonable' restrictions on both 16 and 32 bit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satisfy restrictions will run binary on X86 platform. Recompile 32 bit apps for RI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41480" y="536400"/>
            <a:ext cx="6572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on OS2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14680" y="174312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mixed 16/32 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irect HW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ort private device d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ring 2 code -&gt; no IOP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access to physical video buffer.          VIO apps run inside a character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86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560600" y="231840"/>
            <a:ext cx="5041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/NT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3876840"/>
            <a:ext cx="48006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438200"/>
            <a:ext cx="190512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43040" y="1577880"/>
            <a:ext cx="10810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933640" y="2352600"/>
            <a:ext cx="18288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105000" y="2340000"/>
            <a:ext cx="1614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7680" y="1209600"/>
            <a:ext cx="281952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29040" y="1425600"/>
            <a:ext cx="2357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1680" y="3571920"/>
            <a:ext cx="57909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0640" y="3952800"/>
            <a:ext cx="1600200" cy="304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86040" y="3863880"/>
            <a:ext cx="94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3440" y="39528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344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0068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319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00680" y="1971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1971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1000" y="3787920"/>
            <a:ext cx="170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1000" y="2797200"/>
            <a:ext cx="1447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14640" y="4473720"/>
            <a:ext cx="1871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240" y="3191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265752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1560" y="2657520"/>
            <a:ext cx="685800" cy="1295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76600" y="2949480"/>
            <a:ext cx="461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6600" y="3406680"/>
            <a:ext cx="447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67360" y="6010200"/>
            <a:ext cx="175248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43640" y="630252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10120" y="62262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9140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76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2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76840"/>
            <a:ext cx="121932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71840" y="1044720"/>
            <a:ext cx="27957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lit screen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258120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1560" y="3267000"/>
            <a:ext cx="685800" cy="9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6600" y="3330720"/>
            <a:ext cx="461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95760" y="5934240"/>
            <a:ext cx="3124080" cy="10666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48000" y="622620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10120" y="6226200"/>
            <a:ext cx="987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51544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5768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2124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5629320"/>
            <a:ext cx="0" cy="53352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4029120"/>
            <a:ext cx="129528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71840" y="968400"/>
            <a:ext cx="2847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 screen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2960" y="28861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0840" y="387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22160" y="536400"/>
            <a:ext cx="8564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's/Con's of Split vs. Same Scre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1673280"/>
            <a:ext cx="7439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Scre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looks like Windows from use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an't see them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170080" y="460440"/>
            <a:ext cx="53863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16/32 Clien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624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0024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96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3343320"/>
            <a:ext cx="213372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5320" y="3406680"/>
            <a:ext cx="1819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nk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71640" y="4854600"/>
            <a:ext cx="26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client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0640" y="2581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0640" y="4257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1508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3872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508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10120" y="4854600"/>
            <a:ext cx="2624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 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29480" y="25812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52560" y="2200320"/>
            <a:ext cx="64771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Add 16 bit Base APIs                                 8 (1.X,  VIO applicat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dd PM support                                        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 and 32 PM app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eparate scree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hare the glass                                       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e screen group, D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70080" y="460440"/>
            <a:ext cx="5686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POW/NT in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04800" y="1577880"/>
            <a:ext cx="8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76800" y="1577880"/>
            <a:ext cx="2681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 effort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