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601200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0128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3040" y="17114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8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0128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3040" y="3927240"/>
            <a:ext cx="2782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9880" y="291600"/>
            <a:ext cx="86407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7520" y="39272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988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7520" y="1711440"/>
            <a:ext cx="4216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880" y="3927240"/>
            <a:ext cx="86407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86560" y="8186760"/>
            <a:ext cx="860400" cy="37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LinePrinter"/>
                <a:ea typeface="LinePrinter"/>
              </a:rPr>
              <a:t>June 14th 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9880" y="291600"/>
            <a:ext cx="86407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928880" y="-990720"/>
            <a:ext cx="1047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209680" y="-609480"/>
            <a:ext cx="5257800" cy="5612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NT Multiple Vitual DOS Machines (VD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dows 16 Compatibility on Windows 32 (W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tt Fel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7080" y="-990720"/>
            <a:ext cx="1519200" cy="20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  <a:ea typeface="Arial"/>
              </a:rPr>
              <a:t>NT VDM &amp; WOW</a:t>
            </a: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-380880"/>
            <a:ext cx="426708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-152280"/>
            <a:ext cx="1143000" cy="622440"/>
          </a:xfrm>
          <a:prstGeom prst="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609480"/>
            <a:ext cx="4267080" cy="3732840"/>
          </a:xfrm>
          <a:prstGeom prst="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gration from DOS to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all Major DOS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all Major Windows 3.x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 NT from DOS or Windows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omparable to Windows 3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 Sources between x86 &amp; R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 bit Windows Apps as Peers to 32 bit Ap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78000" y="-990720"/>
            <a:ext cx="155880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DM Architecture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-533520"/>
            <a:ext cx="236232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76480" y="-412920"/>
            <a:ext cx="195408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Emulation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-1522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28760" y="196920"/>
            <a:ext cx="14749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6160" y="-412920"/>
            <a:ext cx="63504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6-B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0200" y="-717480"/>
            <a:ext cx="204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10200" y="2711520"/>
            <a:ext cx="5065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6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6160" y="730080"/>
            <a:ext cx="50148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64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23623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3092400"/>
            <a:ext cx="20908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Device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, LPT, Keyboar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657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28760" y="3778200"/>
            <a:ext cx="14191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Em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952880"/>
            <a:ext cx="65530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76680" y="5454720"/>
            <a:ext cx="74916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 3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6477120"/>
            <a:ext cx="6553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76680" y="6826320"/>
            <a:ext cx="9208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NT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762012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76680" y="7054920"/>
            <a:ext cx="9097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6160" y="3701880"/>
            <a:ext cx="57780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32 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4419720"/>
            <a:ext cx="236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33680" y="4464000"/>
            <a:ext cx="1047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847880" y="4464000"/>
            <a:ext cx="224316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struction Execution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87360" y="-990720"/>
            <a:ext cx="153972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VDM &amp; WOW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133720"/>
            <a:ext cx="236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305080" y="2178000"/>
            <a:ext cx="1047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19280" y="2178000"/>
            <a:ext cx="224316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struction Execution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28640" y="3048120"/>
            <a:ext cx="6600960" cy="876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343400" y="0"/>
            <a:ext cx="4038480" cy="37414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PC from Insignia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724280" y="609480"/>
            <a:ext cx="327672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Incremental Compilation of x86 to RI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43400" y="1447920"/>
            <a:ext cx="3962520" cy="1870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X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386 v86 Mod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76320"/>
            <a:ext cx="259056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38480" y="2209680"/>
            <a:ext cx="42674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12880" y="-657360"/>
            <a:ext cx="1792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87360" y="-990720"/>
            <a:ext cx="153972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VDM &amp; WOW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828800" y="-457200"/>
            <a:ext cx="5791320" cy="12470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Application &amp; Virtual Drivers run at User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626K Free Mem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5.0 Compa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XMS (DOS 5.0 HiM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M LIM 4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mand Paged Virtu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parent Access to NT Fil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PMI .9 (same as Win 3.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dle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ultiple DOS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py &amp; Paste to Clip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70000" y="-990720"/>
            <a:ext cx="1774800" cy="137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VDM Restrictions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-152280"/>
            <a:ext cx="4724280" cy="9353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Internal Structure Depend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Disk Device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rect Floppy / Hard disk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ccess to Add in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CPI DOS Exte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ther v86 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87360" y="-990720"/>
            <a:ext cx="153972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VDM &amp; WOW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-533520"/>
            <a:ext cx="2362320" cy="335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76480" y="-412920"/>
            <a:ext cx="195408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Emulation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-1522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86160" y="-412920"/>
            <a:ext cx="63504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6-B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10200" y="2711520"/>
            <a:ext cx="5065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6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6160" y="730080"/>
            <a:ext cx="50148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64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048120"/>
            <a:ext cx="23623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00160" y="3092400"/>
            <a:ext cx="209088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Device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, LPT, Keyboar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657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28760" y="3778200"/>
            <a:ext cx="14191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OS Em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952880"/>
            <a:ext cx="65530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76680" y="5454720"/>
            <a:ext cx="74916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 3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77120"/>
            <a:ext cx="65530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76680" y="6826320"/>
            <a:ext cx="9208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NT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7620120"/>
            <a:ext cx="65530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76680" y="7054920"/>
            <a:ext cx="9097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6160" y="3701880"/>
            <a:ext cx="57780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32 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4419720"/>
            <a:ext cx="236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33680" y="4464000"/>
            <a:ext cx="1047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47880" y="4464000"/>
            <a:ext cx="2243160" cy="24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struction Execution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76480" y="-31680"/>
            <a:ext cx="173520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dows 3.x Ker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76480" y="425520"/>
            <a:ext cx="169056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r &amp; GDI Thu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76480" y="1187280"/>
            <a:ext cx="163368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dows 3.x Ap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g Excel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262480" y="334800"/>
            <a:ext cx="1339920" cy="1870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OW Thunk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33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8380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52440" y="-1066680"/>
            <a:ext cx="1914480" cy="171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 WOW Restrictions 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33720" y="-380880"/>
            <a:ext cx="411480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6 Bit "GDI" Drivers eg Micrographics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ndard Mode On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ndows USER &amp; GDI Inte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..... Still und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95560" y="-990720"/>
            <a:ext cx="2028960" cy="154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9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 VDM &amp; WOW Status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09680" y="-228600"/>
            <a:ext cx="5257800" cy="10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90% DOS Emulation Code 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OW Runs - Reversi, Clock, Calendar, Notepad, Minesweaper, Tetris, Randrect, Write Pri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de Complete Oct 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sig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CPU + VDDs run on 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ader on NT July/A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ll 3.0 286 Complete on NT Oct 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