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7D2-47DD-4F3E-8B32-DAB499B1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3DE-7DE4-4BD0-99E5-BEF20CB4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375-B948-4A56-90CC-6C926F48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C94-9DAF-4FD5-BDAE-38DD004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F496-D3EE-4934-BC13-CBEFFEE2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D78A-1283-4185-BC23-1573348B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6053-09A3-4CFD-8074-B4AF45D1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0BA6-9D5C-4FC1-9C64-1EFD562C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B9A2-8596-4D6D-B6FD-160EF6D5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0C0A-50B7-4E11-A41B-E301AC9F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E960-D870-462A-9817-5A797E7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241-D1F8-48E9-B6F0-5C6282CE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A53D-2EAF-4167-A688-377F6418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4742-4541-415C-B1F3-E5842AB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67FB-4ACD-4A95-AE0F-04FDA8DF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0CA-DC0D-4BFB-8434-9FE469E5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A5EF-D51C-4F00-A5BA-83B977B6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1F3-5E8F-488D-9CCD-6B188CD3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027-8729-4EB7-B4DD-A4D47CFA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B26-7B76-4FE2-A385-790233D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D7C-3B9C-4BD1-8EE7-B749CA4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327-C9AE-4108-B13E-2CAF34F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BFF-7333-4665-89DC-F6DC3D7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0ED-43B5-4407-8E8E-58407AF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62920" y="-533520"/>
            <a:ext cx="2514600" cy="2514600"/>
          </a:xfrm>
          <a:prstGeom prst="diamond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BCB-FFF8-4C26-AE0C-7BB3545FD9C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DB48-48E0-4EB2-A78E-B4376729C6C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IE 4.0 Shell Architecture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5530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E 4.0 Technology Exchange Mee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IE 4.0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5280" y="2743200"/>
            <a:ext cx="32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atoshi Nakaj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2485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Nov., 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allows the shell view t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rge Men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dd Toolbar butt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 some status 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nslate accelerato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5943600"/>
            <a:ext cx="620496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OLE’s In-place UI negotiati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Def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default implementation of IShellView on top of IShellFold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4197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  <a:endCxn id="187" idx="3"/>
          </p:cNvCxnSpPr>
          <p:nvPr/>
        </p:nvCxnSpPr>
        <p:spPr>
          <a:xfrm flipH="1">
            <a:off x="5562000" y="46861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334120" y="4572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41911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06680" y="518148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410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2"/>
          </p:cNvCxnSpPr>
          <p:nvPr/>
        </p:nvCxnSpPr>
        <p:spPr>
          <a:xfrm flipV="1">
            <a:off x="2704680" y="48762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59092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3434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19200">
            <a:off x="4647960" y="5333760"/>
            <a:ext cx="531720" cy="5364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2040" y="6095880"/>
            <a:ext cx="47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CreateShellFolderView(ps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0" idx="3"/>
            <a:endCxn id="187" idx="1"/>
          </p:cNvCxnSpPr>
          <p:nvPr/>
        </p:nvCxnSpPr>
        <p:spPr>
          <a:xfrm flipV="1">
            <a:off x="3962520" y="4685760"/>
            <a:ext cx="1372320" cy="99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xtended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Vs can plug-in their own hierarchical name 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4290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1"/>
            <a:endCxn id="204" idx="3"/>
          </p:cNvCxnSpPr>
          <p:nvPr/>
        </p:nvCxnSpPr>
        <p:spPr>
          <a:xfrm flipH="1">
            <a:off x="4114440" y="36190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3886200" y="3505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9718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038480"/>
            <a:ext cx="21333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1"/>
            <a:endCxn id="208" idx="3"/>
          </p:cNvCxnSpPr>
          <p:nvPr/>
        </p:nvCxnSpPr>
        <p:spPr>
          <a:xfrm flipH="1">
            <a:off x="4952160" y="422892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72428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4572000"/>
            <a:ext cx="21333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Ho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1"/>
            <a:endCxn id="211" idx="3"/>
          </p:cNvCxnSpPr>
          <p:nvPr/>
        </p:nvCxnSpPr>
        <p:spPr>
          <a:xfrm flipH="1">
            <a:off x="4952160" y="476208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72428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10552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S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1"/>
            <a:endCxn id="214" idx="3"/>
          </p:cNvCxnSpPr>
          <p:nvPr/>
        </p:nvCxnSpPr>
        <p:spPr>
          <a:xfrm flipH="1">
            <a:off x="5790960" y="529560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56272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638680"/>
            <a:ext cx="21337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1"/>
            <a:endCxn id="217" idx="3"/>
          </p:cNvCxnSpPr>
          <p:nvPr/>
        </p:nvCxnSpPr>
        <p:spPr>
          <a:xfrm flipH="1">
            <a:off x="5790960" y="582912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56272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722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Zip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220" idx="3"/>
          </p:cNvCxnSpPr>
          <p:nvPr/>
        </p:nvCxnSpPr>
        <p:spPr>
          <a:xfrm flipH="1">
            <a:off x="5790960" y="63622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556272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105520" y="5295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092200" y="63626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79960" y="5829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nternet Explorer 3.0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133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31" idx="0"/>
            <a:endCxn id="229" idx="2"/>
          </p:cNvCxnSpPr>
          <p:nvPr/>
        </p:nvCxnSpPr>
        <p:spPr>
          <a:xfrm flipV="1">
            <a:off x="2628720" y="2742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2514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96252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0"/>
            <a:endCxn id="234" idx="2"/>
          </p:cNvCxnSpPr>
          <p:nvPr/>
        </p:nvCxnSpPr>
        <p:spPr>
          <a:xfrm flipV="1">
            <a:off x="171432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160020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895480"/>
            <a:ext cx="167652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3352680"/>
            <a:ext cx="1371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962520"/>
            <a:ext cx="190512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0"/>
            <a:endCxn id="239" idx="2"/>
          </p:cNvCxnSpPr>
          <p:nvPr/>
        </p:nvCxnSpPr>
        <p:spPr>
          <a:xfrm flipV="1">
            <a:off x="407628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396252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0"/>
            <a:endCxn id="237" idx="2"/>
          </p:cNvCxnSpPr>
          <p:nvPr/>
        </p:nvCxnSpPr>
        <p:spPr>
          <a:xfrm flipV="1">
            <a:off x="4076280" y="45712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962520" y="48769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4724280"/>
            <a:ext cx="243864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>
            <a:off x="407628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396252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257800"/>
            <a:ext cx="1905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2362320"/>
            <a:ext cx="24386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tp://ms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1"/>
            <a:endCxn id="249" idx="3"/>
          </p:cNvCxnSpPr>
          <p:nvPr/>
        </p:nvCxnSpPr>
        <p:spPr>
          <a:xfrm flipH="1">
            <a:off x="525708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502920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06680" y="327672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0819200">
            <a:off x="4724280" y="3123360"/>
            <a:ext cx="532080" cy="53676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d/Exc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0"/>
            <a:endCxn id="255" idx="2"/>
          </p:cNvCxnSpPr>
          <p:nvPr/>
        </p:nvCxnSpPr>
        <p:spPr>
          <a:xfrm flipV="1">
            <a:off x="643860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32448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ShellBrowser is a mini-Explor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88620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60" idx="0"/>
            <a:endCxn id="258" idx="2"/>
          </p:cNvCxnSpPr>
          <p:nvPr/>
        </p:nvCxnSpPr>
        <p:spPr>
          <a:xfrm flipV="1">
            <a:off x="4000320" y="441900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8862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6483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3" idx="1"/>
            <a:endCxn id="258" idx="3"/>
          </p:cNvCxnSpPr>
          <p:nvPr/>
        </p:nvCxnSpPr>
        <p:spPr>
          <a:xfrm flipH="1">
            <a:off x="5257080" y="41526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627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3657600"/>
            <a:ext cx="23623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ispat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Ap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Hlink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Target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895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5053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70840" y="32767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00200" y="281952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dge”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9718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Doc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2" idx="0"/>
            <a:endCxn id="274" idx="2"/>
          </p:cNvCxnSpPr>
          <p:nvPr/>
        </p:nvCxnSpPr>
        <p:spPr>
          <a:xfrm flipV="1">
            <a:off x="3161880" y="2361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048120" y="21337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6" idx="0"/>
            <a:endCxn id="277" idx="2"/>
          </p:cNvCxnSpPr>
          <p:nvPr/>
        </p:nvCxnSpPr>
        <p:spPr>
          <a:xfrm flipV="1">
            <a:off x="3161880" y="44953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048120" y="5105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4495680"/>
            <a:ext cx="2819520" cy="2057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erviceProvi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8862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ocObject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358128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2286000"/>
            <a:ext cx="27432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rowserOC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312408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4" idx="0"/>
            <a:endCxn id="286" idx="2"/>
          </p:cNvCxnSpPr>
          <p:nvPr/>
        </p:nvCxnSpPr>
        <p:spPr>
          <a:xfrm flipV="1">
            <a:off x="4533480" y="26665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4419720" y="2438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8" idx="0"/>
            <a:endCxn id="289" idx="2"/>
          </p:cNvCxnSpPr>
          <p:nvPr/>
        </p:nvCxnSpPr>
        <p:spPr>
          <a:xfrm flipV="1">
            <a:off x="4533480" y="479988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4419720" y="54100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1911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752480"/>
            <a:ext cx="236196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ViewObject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PersistSreamIn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51055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866920" y="38862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90360" y="39625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Frame Se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3886200"/>
            <a:ext cx="26672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9" idx="0"/>
            <a:endCxn id="301" idx="2"/>
          </p:cNvCxnSpPr>
          <p:nvPr/>
        </p:nvCxnSpPr>
        <p:spPr>
          <a:xfrm flipV="1">
            <a:off x="331452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320040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31452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320040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886200"/>
            <a:ext cx="26668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6" idx="0"/>
            <a:endCxn id="308" idx="2"/>
          </p:cNvCxnSpPr>
          <p:nvPr/>
        </p:nvCxnSpPr>
        <p:spPr>
          <a:xfrm flipV="1">
            <a:off x="613368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601992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10" idx="0"/>
            <a:endCxn id="311" idx="2"/>
          </p:cNvCxnSpPr>
          <p:nvPr/>
        </p:nvCxnSpPr>
        <p:spPr>
          <a:xfrm flipV="1">
            <a:off x="613368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601992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7621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V="1">
            <a:off x="4686120" y="11422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572000" y="1295280"/>
            <a:ext cx="228600" cy="163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0"/>
            <a:endCxn id="317" idx="2"/>
          </p:cNvCxnSpPr>
          <p:nvPr/>
        </p:nvCxnSpPr>
        <p:spPr>
          <a:xfrm flipV="1">
            <a:off x="4686120" y="2580840"/>
            <a:ext cx="1080" cy="16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4572000" y="243828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895480"/>
            <a:ext cx="14475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20" idx="0"/>
            <a:endCxn id="318" idx="2"/>
          </p:cNvCxnSpPr>
          <p:nvPr/>
        </p:nvCxnSpPr>
        <p:spPr>
          <a:xfrm flipV="1">
            <a:off x="331452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320040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2895480"/>
            <a:ext cx="14479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3" idx="0"/>
            <a:endCxn id="321" idx="2"/>
          </p:cNvCxnSpPr>
          <p:nvPr/>
        </p:nvCxnSpPr>
        <p:spPr>
          <a:xfrm flipV="1">
            <a:off x="613368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601992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62485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0"/>
            <a:endCxn id="326" idx="2"/>
          </p:cNvCxnSpPr>
          <p:nvPr/>
        </p:nvCxnSpPr>
        <p:spPr>
          <a:xfrm flipV="1">
            <a:off x="331452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320040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62485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7" idx="0"/>
            <a:endCxn id="329" idx="2"/>
          </p:cNvCxnSpPr>
          <p:nvPr/>
        </p:nvCxnSpPr>
        <p:spPr>
          <a:xfrm flipV="1">
            <a:off x="613368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601992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43434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2767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Cli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581280"/>
            <a:ext cx="121932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274320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3341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5" idx="2"/>
          </p:cNvCxnSpPr>
          <p:nvPr/>
        </p:nvCxnSpPr>
        <p:spPr>
          <a:xfrm flipV="1">
            <a:off x="331452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320040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7" idx="0"/>
            <a:endCxn id="333" idx="2"/>
          </p:cNvCxnSpPr>
          <p:nvPr/>
        </p:nvCxnSpPr>
        <p:spPr>
          <a:xfrm flipV="1">
            <a:off x="331452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20040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53341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0"/>
            <a:endCxn id="340" idx="2"/>
          </p:cNvCxnSpPr>
          <p:nvPr/>
        </p:nvCxnSpPr>
        <p:spPr>
          <a:xfrm flipV="1">
            <a:off x="613368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601992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0"/>
            <a:endCxn id="338" idx="2"/>
          </p:cNvCxnSpPr>
          <p:nvPr/>
        </p:nvCxnSpPr>
        <p:spPr>
          <a:xfrm flipV="1">
            <a:off x="613368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601992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48769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62920" y="51814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12193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15238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5791320"/>
            <a:ext cx="190512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60199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1752480"/>
            <a:ext cx="19047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9" idx="0"/>
            <a:endCxn id="351" idx="2"/>
          </p:cNvCxnSpPr>
          <p:nvPr/>
        </p:nvCxnSpPr>
        <p:spPr>
          <a:xfrm flipV="1">
            <a:off x="4686120" y="1675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4572000" y="15238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3" idx="0"/>
            <a:endCxn id="349" idx="2"/>
          </p:cNvCxnSpPr>
          <p:nvPr/>
        </p:nvCxnSpPr>
        <p:spPr>
          <a:xfrm flipV="1">
            <a:off x="4686120" y="2133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572000" y="22096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057400"/>
            <a:ext cx="190476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2286000"/>
            <a:ext cx="152388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E 4.0 Explor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98108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E 4.0 Explorer, Folder and Desktop are based on IE 3.0 browser cod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4267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88620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66680" y="36576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114800"/>
            <a:ext cx="28195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42670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1814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4876920"/>
            <a:ext cx="1522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52680" y="396252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9625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3341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9440" y="42670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53341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Explorer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495288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57040" y="47242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76520" y="5181480"/>
            <a:ext cx="28191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a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Bar is a dockable browser, which can be docked on a browser or the deskto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52578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7150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C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61722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8" idx="0"/>
            <a:endCxn id="382" idx="2"/>
          </p:cNvCxnSpPr>
          <p:nvPr/>
        </p:nvCxnSpPr>
        <p:spPr>
          <a:xfrm flipV="1">
            <a:off x="3085920" y="487656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29718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572000"/>
            <a:ext cx="22860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6" idx="0"/>
            <a:endCxn id="384" idx="2"/>
          </p:cNvCxnSpPr>
          <p:nvPr/>
        </p:nvCxnSpPr>
        <p:spPr>
          <a:xfrm flipV="1">
            <a:off x="3085920" y="3885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97180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4038480"/>
            <a:ext cx="2514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3526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657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7880" y="32004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4038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37339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cope of this present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vered in this pres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owser, Shell Explorer, WebBar, Asynchronos Navigation, UI negoti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cover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View, Automation Model, Desktop New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Layout Negoti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ffective Client Area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24040" y="2352600"/>
            <a:ext cx="5905440" cy="40291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4114800"/>
            <a:ext cx="56386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fective Client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EffectiveClient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internet toolba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78040" y="2413080"/>
            <a:ext cx="5803920" cy="698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2590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 toolbar takes this borde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TBS::GetBorderS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24040" y="3127320"/>
            <a:ext cx="5905440" cy="325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5053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scope pane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5440" y="3403440"/>
            <a:ext cx="1536480" cy="290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8769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cope pane takes the border space from left and top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2320" y="464832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3162240"/>
            <a:ext cx="5816520" cy="203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2895120" y="3276720"/>
            <a:ext cx="76212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400560" y="3305160"/>
            <a:ext cx="4228920" cy="3076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4343400"/>
            <a:ext cx="39625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InPlaceUIWindow::GetBorde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3340080"/>
            <a:ext cx="4165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3886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l’s formular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8862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Windo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00560" y="3508200"/>
            <a:ext cx="4228920" cy="287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4343400"/>
            <a:ext cx="38862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Windo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DocumentView::SetRect will be called with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0"/>
            <a:endCxn id="431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2"/>
            <a:endCxn id="431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06812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8360" y="5029200"/>
            <a:ext cx="60498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IHlinkFrame::Navigate cal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Create a new Wedge (Wedge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Create URL moniker and call BindTo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remains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6" idx="0"/>
            <a:endCxn id="438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8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endCxn id="438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08440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676520"/>
            <a:ext cx="533520" cy="533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84800" y="2819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5620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6" idx="2"/>
          </p:cNvCxnSpPr>
          <p:nvPr/>
        </p:nvCxnSpPr>
        <p:spPr>
          <a:xfrm flipV="1">
            <a:off x="518436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507060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27800" y="3886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36" idx="2"/>
            <a:endCxn id="446" idx="1"/>
          </p:cNvCxnSpPr>
          <p:nvPr/>
        </p:nvCxnSpPr>
        <p:spPr>
          <a:xfrm>
            <a:off x="404172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29" idx="2"/>
            <a:endCxn id="432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2" idx="2"/>
            <a:endCxn id="450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3429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5" idx="0"/>
            <a:endCxn id="457" idx="2"/>
          </p:cNvCxnSpPr>
          <p:nvPr/>
        </p:nvCxnSpPr>
        <p:spPr>
          <a:xfrm flipV="1">
            <a:off x="186660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7" name=""/>
          <p:cNvSpPr/>
          <p:nvPr/>
        </p:nvSpPr>
        <p:spPr>
          <a:xfrm>
            <a:off x="17524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4" idx="2"/>
            <a:endCxn id="457" idx="0"/>
          </p:cNvCxnSpPr>
          <p:nvPr/>
        </p:nvCxnSpPr>
        <p:spPr>
          <a:xfrm>
            <a:off x="186660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915840" y="259092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28160" y="5029200"/>
            <a:ext cx="62326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Moniker sends a HTTP request to the 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Server respon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Moniker create another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still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13200" y="33526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4" idx="2"/>
          </p:cNvCxnSpPr>
          <p:nvPr/>
        </p:nvCxnSpPr>
        <p:spPr>
          <a:xfrm flipV="1">
            <a:off x="396504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8512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4" idx="1"/>
          </p:cNvCxnSpPr>
          <p:nvPr/>
        </p:nvCxnSpPr>
        <p:spPr>
          <a:xfrm>
            <a:off x="293688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2084400" y="266688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4724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2004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798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9" idx="0"/>
            <a:endCxn id="471" idx="2"/>
          </p:cNvCxnSpPr>
          <p:nvPr/>
        </p:nvCxnSpPr>
        <p:spPr>
          <a:xfrm flipV="1">
            <a:off x="510804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49942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396252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62" idx="2"/>
            <a:endCxn id="471" idx="1"/>
          </p:cNvCxnSpPr>
          <p:nvPr/>
        </p:nvCxnSpPr>
        <p:spPr>
          <a:xfrm>
            <a:off x="396540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5" idx="2"/>
            <a:endCxn id="458" idx="0"/>
          </p:cNvCxnSpPr>
          <p:nvPr/>
        </p:nvCxnSpPr>
        <p:spPr>
          <a:xfrm>
            <a:off x="186660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914400" y="48769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8" idx="2"/>
            <a:endCxn id="475" idx="0"/>
          </p:cNvCxnSpPr>
          <p:nvPr/>
        </p:nvCxnSpPr>
        <p:spPr>
          <a:xfrm>
            <a:off x="186660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>
            <a:off x="6324480" y="46483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32412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2743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276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9" idx="2"/>
            <a:endCxn id="480" idx="0"/>
          </p:cNvCxnSpPr>
          <p:nvPr/>
        </p:nvCxnSpPr>
        <p:spPr>
          <a:xfrm>
            <a:off x="7276680" y="2971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2" name=""/>
          <p:cNvSpPr/>
          <p:nvPr/>
        </p:nvSpPr>
        <p:spPr>
          <a:xfrm rot="21537600">
            <a:off x="5638680" y="3505320"/>
            <a:ext cx="532080" cy="53640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0"/>
            <a:endCxn id="488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5" idx="2"/>
            <a:endCxn id="488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9921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84680" y="5029200"/>
            <a:ext cx="5886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Moniker calls Wedge’s OnObjectAvai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Wedge2 gets the pointer to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Wedge2 notifies it to the 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til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93" idx="0"/>
            <a:endCxn id="495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endCxn id="495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16036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8098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2" idx="2"/>
          </p:cNvCxnSpPr>
          <p:nvPr/>
        </p:nvCxnSpPr>
        <p:spPr>
          <a:xfrm flipV="1">
            <a:off x="438120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42670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3" idx="2"/>
            <a:endCxn id="502" idx="1"/>
          </p:cNvCxnSpPr>
          <p:nvPr/>
        </p:nvCxnSpPr>
        <p:spPr>
          <a:xfrm>
            <a:off x="4041720" y="3809520"/>
            <a:ext cx="22608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86" idx="2"/>
            <a:endCxn id="489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489" idx="2"/>
            <a:endCxn id="505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6477120" y="3886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8680" y="4419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7" idx="2"/>
            <a:endCxn id="508" idx="0"/>
          </p:cNvCxnSpPr>
          <p:nvPr/>
        </p:nvCxnSpPr>
        <p:spPr>
          <a:xfrm>
            <a:off x="6590880" y="4114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10" name=""/>
          <p:cNvCxnSpPr>
            <a:stCxn id="493" idx="3"/>
            <a:endCxn id="507" idx="1"/>
          </p:cNvCxnSpPr>
          <p:nvPr/>
        </p:nvCxnSpPr>
        <p:spPr>
          <a:xfrm>
            <a:off x="4993920" y="3580920"/>
            <a:ext cx="1483560" cy="420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800600" y="2743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34304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57164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0"/>
            <a:endCxn id="513" idx="0"/>
          </p:cNvCxnSpPr>
          <p:nvPr/>
        </p:nvCxnSpPr>
        <p:spPr>
          <a:xfrm flipV="1">
            <a:off x="449568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5" name=""/>
          <p:cNvSpPr/>
          <p:nvPr/>
        </p:nvSpPr>
        <p:spPr>
          <a:xfrm flipH="1" flipV="1">
            <a:off x="4647960" y="3809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876560" y="3962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5" idx="0"/>
            <a:endCxn id="516" idx="0"/>
          </p:cNvCxnSpPr>
          <p:nvPr/>
        </p:nvCxnSpPr>
        <p:spPr>
          <a:xfrm flipV="1">
            <a:off x="4800600" y="3961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38098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2" idx="2"/>
          </p:cNvCxnSpPr>
          <p:nvPr/>
        </p:nvCxnSpPr>
        <p:spPr>
          <a:xfrm flipV="1">
            <a:off x="1485720" y="358056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371600" y="3352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4724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12760" y="5029200"/>
            <a:ext cx="5833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Deactivate and release the current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Activate the Wedge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. UIActivate HTMLView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525" idx="0"/>
            <a:endCxn id="527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endCxn id="527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25923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438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4120" y="3581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0" idx="2"/>
            <a:endCxn id="523" idx="0"/>
          </p:cNvCxnSpPr>
          <p:nvPr/>
        </p:nvCxnSpPr>
        <p:spPr>
          <a:xfrm>
            <a:off x="1485720" y="4267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533520" y="52578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3" idx="2"/>
            <a:endCxn id="533" idx="0"/>
          </p:cNvCxnSpPr>
          <p:nvPr/>
        </p:nvCxnSpPr>
        <p:spPr>
          <a:xfrm>
            <a:off x="1485720" y="49525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48769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4572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5" idx="2"/>
            <a:endCxn id="536" idx="0"/>
          </p:cNvCxnSpPr>
          <p:nvPr/>
        </p:nvCxnSpPr>
        <p:spPr>
          <a:xfrm>
            <a:off x="4990680" y="42667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8" name=""/>
          <p:cNvCxnSpPr>
            <a:stCxn id="525" idx="2"/>
            <a:endCxn id="535" idx="1"/>
          </p:cNvCxnSpPr>
          <p:nvPr/>
        </p:nvCxnSpPr>
        <p:spPr>
          <a:xfrm>
            <a:off x="4041720" y="3809520"/>
            <a:ext cx="83592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1295280" y="27432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419076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441936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0"/>
            <a:endCxn id="542" idx="0"/>
          </p:cNvCxnSpPr>
          <p:nvPr/>
        </p:nvCxnSpPr>
        <p:spPr>
          <a:xfrm flipV="1">
            <a:off x="434340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4" name=""/>
          <p:cNvSpPr/>
          <p:nvPr/>
        </p:nvSpPr>
        <p:spPr>
          <a:xfrm flipH="1" flipV="1">
            <a:off x="5181480" y="39625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410080" y="41148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4" idx="0"/>
            <a:endCxn id="545" idx="0"/>
          </p:cNvCxnSpPr>
          <p:nvPr/>
        </p:nvCxnSpPr>
        <p:spPr>
          <a:xfrm flipV="1">
            <a:off x="5333760" y="411408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7" name=""/>
          <p:cNvSpPr/>
          <p:nvPr/>
        </p:nvSpPr>
        <p:spPr>
          <a:xfrm flipV="1">
            <a:off x="1828800" y="2819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30481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7" idx="0"/>
            <a:endCxn id="548" idx="0"/>
          </p:cNvCxnSpPr>
          <p:nvPr/>
        </p:nvCxnSpPr>
        <p:spPr>
          <a:xfrm flipV="1">
            <a:off x="1828440" y="3047400"/>
            <a:ext cx="2278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609480" y="3352680"/>
            <a:ext cx="1905120" cy="274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33160" y="3352680"/>
            <a:ext cx="1904760" cy="2819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ttp://ohserv/users/sato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t\private\shell\docs (\\trango\slmad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SHIP IT!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Robust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Bug fi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rowser Evolu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Win95 Explorer works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ll Namespace, IShellFolder, pidl, IShellView, IShellBrow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3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4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dvanced topics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yout negotiat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asynchronous navigation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Name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ierarchical name space, which the user can browse with the Shell Explor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I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ems in the shell name space -- drives, files, directories, servers, shares, MyComputer, ControlPanel, ControlPanel items, Printer Folder, Print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1905120"/>
            <a:ext cx="21333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ell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1"/>
            <a:endCxn id="109" idx="3"/>
          </p:cNvCxnSpPr>
          <p:nvPr/>
        </p:nvCxnSpPr>
        <p:spPr>
          <a:xfrm flipH="1">
            <a:off x="4723920" y="232380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495680" y="2209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048120"/>
            <a:ext cx="76960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Folder allows you t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umerate items in it (returns pidl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se display name (name to pid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display name (pidl to na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nd to an i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UI objects (menu, drop target, …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hat is a “pidl”? 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7524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dentifier of an item in the shell name space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971800"/>
            <a:ext cx="76176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971800"/>
            <a:ext cx="22100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aque b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9760" y="2895480"/>
            <a:ext cx="174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ITEMI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9120" y="3505320"/>
            <a:ext cx="90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ID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58128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5812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6680" y="4343400"/>
            <a:ext cx="480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pidl to “C:\tmp\foo.htm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952880"/>
            <a:ext cx="16765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952880"/>
            <a:ext cx="6098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9528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952880"/>
            <a:ext cx="12189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o.ht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5791320"/>
            <a:ext cx="618984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ember that pidls are opaque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inding to 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4400" y="335268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429000"/>
            <a:ext cx="16765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876920"/>
            <a:ext cx="6098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87692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4876920"/>
            <a:ext cx="6098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666880"/>
            <a:ext cx="2133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1"/>
            <a:endCxn id="147" idx="3"/>
          </p:cNvCxnSpPr>
          <p:nvPr/>
        </p:nvCxnSpPr>
        <p:spPr>
          <a:xfrm flipH="1">
            <a:off x="2437920" y="293328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2209680" y="2819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36232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rot="10819800">
            <a:off x="1749960" y="4038120"/>
            <a:ext cx="533520" cy="536760"/>
          </a:xfrm>
          <a:custGeom>
            <a:avLst/>
            <a:gdLst>
              <a:gd name="textAreaLeft" fmla="*/ 360 w 533520"/>
              <a:gd name="textAreaRight" fmla="*/ 534240 w 533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191120"/>
            <a:ext cx="213372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2" idx="3"/>
          </p:cNvCxnSpPr>
          <p:nvPr/>
        </p:nvCxnSpPr>
        <p:spPr>
          <a:xfrm flipH="1">
            <a:off x="3047400" y="44575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281952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8862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4240" y="480060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5715000"/>
            <a:ext cx="21337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1"/>
            <a:endCxn id="157" idx="3"/>
          </p:cNvCxnSpPr>
          <p:nvPr/>
        </p:nvCxnSpPr>
        <p:spPr>
          <a:xfrm flipH="1">
            <a:off x="3656880" y="598140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429000" y="5867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410080"/>
            <a:ext cx="152388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99440" y="1828800"/>
            <a:ext cx="34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GetDesktop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0819800">
            <a:off x="2361600" y="5562720"/>
            <a:ext cx="533160" cy="5364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 / IShell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3623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1"/>
            <a:endCxn id="166" idx="3"/>
          </p:cNvCxnSpPr>
          <p:nvPr/>
        </p:nvCxnSpPr>
        <p:spPr>
          <a:xfrm flipH="1">
            <a:off x="579060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556272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58960" y="342900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71" idx="0"/>
            <a:endCxn id="169" idx="2"/>
          </p:cNvCxnSpPr>
          <p:nvPr/>
        </p:nvCxnSpPr>
        <p:spPr>
          <a:xfrm flipV="1">
            <a:off x="3085920" y="274284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971800" y="3200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724280"/>
            <a:ext cx="251460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view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0"/>
            <a:endCxn id="174" idx="2"/>
          </p:cNvCxnSpPr>
          <p:nvPr/>
        </p:nvCxnSpPr>
        <p:spPr>
          <a:xfrm flipV="1">
            <a:off x="3085920" y="41904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2971800" y="3962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200400"/>
            <a:ext cx="16765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1148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9200">
            <a:off x="4876560" y="3580560"/>
            <a:ext cx="531720" cy="53676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8T00:46:50Z</dcterms:created>
  <dc:creator>Satoshi Nakajima</dc:creator>
  <dc:description/>
  <dc:language>en-US</dc:language>
  <cp:lastModifiedBy>Chris Guzak</cp:lastModifiedBy>
  <cp:lastPrinted>1996-11-08T18:59:09Z</cp:lastPrinted>
  <dcterms:modified xsi:type="dcterms:W3CDTF">1997-07-10T18:17:05Z</dcterms:modified>
  <cp:revision>28</cp:revision>
  <dc:subject/>
  <dc:title>IE 4.0 Shell Architecture</dc:title>
</cp:coreProperties>
</file>