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D2A-185C-41DD-8F98-52AC3A8A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C10-4729-4A95-9383-0AE5FBA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C34-FA34-4554-95F6-5538A973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FFD-7007-4181-AF8A-8669AD8E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EAC-6483-4E12-A5B6-EDC5020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BA8-E083-4631-A004-05CD31D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09EF-2C70-47FA-9D94-FC81490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95C-BB36-47C3-A118-8860BDF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E3F-21A1-4769-A09C-F8F67E3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3FB-3821-427F-AF45-D760397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D3F4-437B-4D23-8E13-4DE0002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BD5-F307-49A2-ABC3-09276D5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58C-BB59-4D8B-A5BA-2DB0B82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FB4-FEFB-44A0-AD5A-187E0A9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2E7-967E-478F-9D48-6D9AE07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515F-4AF3-4486-A3ED-ECC8574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482B-B6F9-4933-9C75-011944E9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BFC-993F-4E48-B0E2-CC572399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F3A-D9EC-4098-A362-54AB59B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C6-CFFD-4DC8-A464-47C1491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1F0-DE34-453B-B2AE-C31745B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080-7F20-4633-8E8C-D190E20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C14-D36F-4A9B-8A08-963F463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E2B-3C1B-401E-9219-7245F87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5F0-02FB-4816-AD6A-0ED3C7BB6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F62-E946-4FDA-AB6D-0C7AFAF2E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E 4.0 as a browser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oshi Nakaj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-going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 (double the metrix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eep it work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g fix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gh Estimate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 time development co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4 persons X 2 weeks (no buffering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 (bug-fixe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1 or 2 dedicated develop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(To Be Filled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3352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in95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22860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22860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257800"/>
            <a:ext cx="22860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0200" y="1676520"/>
            <a:ext cx="35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/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Folder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AP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stView/TreeView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oolbar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76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.0 Brows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8288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3434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167652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/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ReB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56272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ni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rlm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lin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xprx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17220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leaut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17220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weeper 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486400"/>
            <a:ext cx="670572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76920"/>
            <a:ext cx="2286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shtm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ML Vie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5623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 running on Win9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5238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explore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Reb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2286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57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Internet Name Space hoo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 Web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638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 Proce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981080"/>
            <a:ext cx="380988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2286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Reb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2320"/>
            <a:ext cx="22860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2096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01520" y="609120"/>
            <a:ext cx="63421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e-time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-coupling shdocvw from shell3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following features work agai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Comman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ype associations (html, jpg, …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D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Auto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bChec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hena integ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8:40:59Z</dcterms:created>
  <dc:creator>Satoshi Nakajima</dc:creator>
  <dc:description/>
  <dc:language>en-US</dc:language>
  <cp:lastModifiedBy>Satoshi Nakajima</cp:lastModifiedBy>
  <cp:lastPrinted>1996-12-09T20:07:36Z</cp:lastPrinted>
  <dcterms:modified xsi:type="dcterms:W3CDTF">1996-12-09T22:44:30Z</dcterms:modified>
  <cp:revision>7</cp:revision>
  <dc:subject/>
  <dc:title>IE 4.0 as a browser</dc:title>
</cp:coreProperties>
</file>